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9.png" ContentType="image/pn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10.jpeg" ContentType="image/jpeg"/>
  <Override PartName="/ppt/media/image35.jpeg" ContentType="image/jpeg"/>
  <Override PartName="/ppt/media/image29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28.jpeg" ContentType="image/jpeg"/>
  <Override PartName="/ppt/media/image42.jpeg" ContentType="image/jpeg"/>
  <Override PartName="/ppt/media/image34.jpeg" ContentType="image/jpeg"/>
  <Override PartName="/ppt/media/image37.png" ContentType="image/png"/>
  <Override PartName="/ppt/media/image45.png" ContentType="image/png"/>
  <Override PartName="/ppt/media/image44.jpeg" ContentType="image/jpeg"/>
  <Override PartName="/ppt/media/image7.jpeg" ContentType="image/jpeg"/>
  <Override PartName="/ppt/media/image38.jpeg" ContentType="image/jpeg"/>
  <Override PartName="/ppt/media/image46.png" ContentType="image/png"/>
  <Override PartName="/ppt/media/image5.png" ContentType="image/png"/>
  <Override PartName="/ppt/media/image43.jpeg" ContentType="image/jpeg"/>
  <Override PartName="/ppt/media/image9.jpeg" ContentType="image/jpeg"/>
  <Override PartName="/ppt/media/image11.jpeg" ContentType="image/jpeg"/>
  <Override PartName="/ppt/media/image40.jpeg" ContentType="image/jpeg"/>
  <Override PartName="/ppt/media/image13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2801600" cy="96012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54BC0-AE8A-4E47-A5F2-CC4C4D6BF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1152216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39720" y="5550480"/>
            <a:ext cx="1152216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CD4A3-D8C2-4555-8CF1-2869D3D97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543720" y="223992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39720" y="555048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543720" y="555048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57060-D569-477D-8C03-02FAD3B27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370980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35280" y="2239920"/>
            <a:ext cx="370980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431200" y="2239920"/>
            <a:ext cx="370980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39720" y="5550480"/>
            <a:ext cx="370980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535280" y="5550480"/>
            <a:ext cx="370980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431200" y="5550480"/>
            <a:ext cx="370980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A62F0-D6DE-483A-8E9E-5AB84DF75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39720" y="2239920"/>
            <a:ext cx="11522160" cy="633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72481-4F73-40E1-AFEB-7CAFFC24F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11522160" cy="63374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2396F-F263-42BA-9CFB-970FB2D59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5622480" cy="63374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543720" y="2239920"/>
            <a:ext cx="5622480" cy="63374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6E401-F3F0-4441-9350-4FFB45DC7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B8311-99FB-4F54-9850-604DD07ED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39720" y="383760"/>
            <a:ext cx="1152216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8CE9E-009B-44EE-BF0B-1219485D7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543720" y="2239920"/>
            <a:ext cx="5622480" cy="63374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39720" y="555048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E43E1-8BAD-4061-970E-DD972188E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5622480" cy="63374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543720" y="223992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543720" y="555048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E002E-8F13-4399-BCDE-7CD58E203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543720" y="223992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39720" y="5550480"/>
            <a:ext cx="1152216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71730-4952-4341-884A-0011B1550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39720" y="2239920"/>
            <a:ext cx="11522160" cy="63374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marL="479520" indent="-47952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1" marL="1039680" indent="-399960"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2" marL="1600200" indent="-32076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3" marL="2239920" indent="-318960"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4" marL="2879640" indent="-318960"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5" marL="2879640" indent="-318960"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6" marL="2879640" indent="-318960"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9360" y="8744040"/>
            <a:ext cx="2987640" cy="666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Autofit/>
          </a:bodyPr>
          <a:lstStyle>
            <a:lvl1pPr indent="0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  <a:defRPr b="0" lang="es-ES_tradnl" sz="2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373640" y="8744040"/>
            <a:ext cx="4054320" cy="666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Autofit/>
          </a:bodyPr>
          <a:lstStyle>
            <a:lvl1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  <a:defRPr b="0" lang="es-ES_tradnl" sz="2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173880" y="8744040"/>
            <a:ext cx="2987640" cy="666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Autofit/>
          </a:bodyPr>
          <a:lstStyle>
            <a:lvl1pPr indent="0" algn="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  <a:defRPr b="0" lang="es-ES_tradnl" sz="2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fld id="{EA50A4BB-2D7D-4E6D-9E18-A54E161344C5}" type="slidenum">
              <a:rPr b="0" lang="es-ES_tradnl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26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image" Target="../media/image44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image" Target="../media/image19.png"/><Relationship Id="rId8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1287360" cy="98409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-368280" y="9121680"/>
            <a:ext cx="13169880" cy="479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21160" y="2639880"/>
            <a:ext cx="66960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Stylus BT"/>
              </a:rPr>
              <a:t>La Cultura de las Ciudad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Stylus BT"/>
              </a:rPr>
              <a:t>Ciudades Sostenib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9234360"/>
            <a:ext cx="1259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tylus BT"/>
              </a:rPr>
              <a:t>Universidad Blas Pascal, Teoría Urbana II     CABALLERO, Luciana – MARTINEZ, Facundo – RUATTA, Cint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2"/>
          <p:cNvSpPr/>
          <p:nvPr/>
        </p:nvSpPr>
        <p:spPr>
          <a:xfrm>
            <a:off x="0" y="0"/>
            <a:ext cx="1287360" cy="98409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4"/>
          <p:cNvSpPr/>
          <p:nvPr/>
        </p:nvSpPr>
        <p:spPr>
          <a:xfrm rot="16200000">
            <a:off x="-2716560" y="3620160"/>
            <a:ext cx="669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Stylus BT"/>
              </a:rPr>
              <a:t>CIUDADES SOSTENIB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1" name="7 Conector recto de flecha"/>
          <p:cNvCxnSpPr/>
          <p:nvPr/>
        </p:nvCxnSpPr>
        <p:spPr>
          <a:xfrm>
            <a:off x="3043080" y="1014480"/>
            <a:ext cx="6433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52" name="8 CuadroTexto"/>
          <p:cNvSpPr/>
          <p:nvPr/>
        </p:nvSpPr>
        <p:spPr>
          <a:xfrm>
            <a:off x="2043000" y="871560"/>
            <a:ext cx="1000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MEXIC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3" name="9 Conector recto de flecha"/>
          <p:cNvCxnSpPr/>
          <p:nvPr/>
        </p:nvCxnSpPr>
        <p:spPr>
          <a:xfrm>
            <a:off x="3043080" y="1442520"/>
            <a:ext cx="64332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54" name="10 CuadroTexto"/>
          <p:cNvSpPr/>
          <p:nvPr/>
        </p:nvSpPr>
        <p:spPr>
          <a:xfrm>
            <a:off x="3900600" y="890640"/>
            <a:ext cx="557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Ciudad mas poblada y contaminad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5" name="11 Conector recto de flecha"/>
          <p:cNvCxnSpPr/>
          <p:nvPr/>
        </p:nvCxnSpPr>
        <p:spPr>
          <a:xfrm>
            <a:off x="3043080" y="1871640"/>
            <a:ext cx="6433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56" name="12 CuadroTexto"/>
          <p:cNvSpPr/>
          <p:nvPr/>
        </p:nvSpPr>
        <p:spPr>
          <a:xfrm>
            <a:off x="4686480" y="5943600"/>
            <a:ext cx="20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Inmigración rura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7" name="13 Conector recto de flecha"/>
          <p:cNvCxnSpPr/>
          <p:nvPr/>
        </p:nvCxnSpPr>
        <p:spPr>
          <a:xfrm>
            <a:off x="3900600" y="6157440"/>
            <a:ext cx="64332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258" name="Picture 2" descr="http://www.e-local.gob.mx/work/templates/enciclo/mexico/mpios/fotos/058-1.jpg"/>
          <p:cNvPicPr/>
          <p:nvPr/>
        </p:nvPicPr>
        <p:blipFill>
          <a:blip r:embed="rId1"/>
          <a:stretch/>
        </p:blipFill>
        <p:spPr>
          <a:xfrm>
            <a:off x="2114640" y="3014640"/>
            <a:ext cx="3381120" cy="217188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4" descr="http://upload.wikimedia.org/wikipedia/commons/thumb/7/76/Las_Vegas_strip.jpg/250px-Las_Vegas_strip.jpg"/>
          <p:cNvPicPr/>
          <p:nvPr/>
        </p:nvPicPr>
        <p:blipFill>
          <a:blip r:embed="rId2"/>
          <a:stretch/>
        </p:blipFill>
        <p:spPr>
          <a:xfrm>
            <a:off x="5046840" y="4014720"/>
            <a:ext cx="2139840" cy="160992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6" descr="http://1.bp.blogspot.com/_cylWLNJulpM/SdfSCyeYqgI/AAAAAAAAANw/Stfa3w_fPyc/s400/megalopolis.jpg"/>
          <p:cNvPicPr/>
          <p:nvPr/>
        </p:nvPicPr>
        <p:blipFill>
          <a:blip r:embed="rId3"/>
          <a:stretch/>
        </p:blipFill>
        <p:spPr>
          <a:xfrm>
            <a:off x="7615080" y="3014640"/>
            <a:ext cx="2714760" cy="219060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8" descr="http://www.actualidadesmexico.com.mx/wp-content/uploads/2009/05/ciudad-300x225.jpg"/>
          <p:cNvPicPr/>
          <p:nvPr/>
        </p:nvPicPr>
        <p:blipFill>
          <a:blip r:embed="rId4"/>
          <a:stretch/>
        </p:blipFill>
        <p:spPr>
          <a:xfrm>
            <a:off x="9901080" y="4014720"/>
            <a:ext cx="2214720" cy="1660680"/>
          </a:xfrm>
          <a:prstGeom prst="rect">
            <a:avLst/>
          </a:prstGeom>
          <a:ln w="0">
            <a:noFill/>
          </a:ln>
        </p:spPr>
      </p:pic>
      <p:sp>
        <p:nvSpPr>
          <p:cNvPr id="262" name="19 CuadroTexto"/>
          <p:cNvSpPr/>
          <p:nvPr/>
        </p:nvSpPr>
        <p:spPr>
          <a:xfrm>
            <a:off x="3900600" y="1300320"/>
            <a:ext cx="557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340.000 habitant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20 CuadroTexto"/>
          <p:cNvSpPr/>
          <p:nvPr/>
        </p:nvSpPr>
        <p:spPr>
          <a:xfrm>
            <a:off x="3900600" y="1728720"/>
            <a:ext cx="557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20 millones de habitant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21 CuadroTexto"/>
          <p:cNvSpPr/>
          <p:nvPr/>
        </p:nvSpPr>
        <p:spPr>
          <a:xfrm>
            <a:off x="3900600" y="2104920"/>
            <a:ext cx="557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4 millones de automóviles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22 CuadroTexto"/>
          <p:cNvSpPr/>
          <p:nvPr/>
        </p:nvSpPr>
        <p:spPr>
          <a:xfrm>
            <a:off x="2043000" y="1247760"/>
            <a:ext cx="1000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19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23 CuadroTexto"/>
          <p:cNvSpPr/>
          <p:nvPr/>
        </p:nvSpPr>
        <p:spPr>
          <a:xfrm>
            <a:off x="2043000" y="1676520"/>
            <a:ext cx="1000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HO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24 CuadroTexto"/>
          <p:cNvSpPr/>
          <p:nvPr/>
        </p:nvSpPr>
        <p:spPr>
          <a:xfrm>
            <a:off x="2043000" y="5943600"/>
            <a:ext cx="185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PROBLEMÁT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8" name="26 Conector recto de flecha"/>
          <p:cNvCxnSpPr/>
          <p:nvPr/>
        </p:nvCxnSpPr>
        <p:spPr>
          <a:xfrm>
            <a:off x="3900600" y="6585120"/>
            <a:ext cx="6433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69" name="27 Conector recto de flecha"/>
          <p:cNvCxnSpPr/>
          <p:nvPr/>
        </p:nvCxnSpPr>
        <p:spPr>
          <a:xfrm>
            <a:off x="3900600" y="7013160"/>
            <a:ext cx="64332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70" name="28 Conector recto de flecha"/>
          <p:cNvCxnSpPr/>
          <p:nvPr/>
        </p:nvCxnSpPr>
        <p:spPr>
          <a:xfrm>
            <a:off x="3900600" y="7372440"/>
            <a:ext cx="6433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71" name="29 CuadroTexto"/>
          <p:cNvSpPr/>
          <p:nvPr/>
        </p:nvSpPr>
        <p:spPr>
          <a:xfrm>
            <a:off x="4686480" y="6391440"/>
            <a:ext cx="200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Vivienda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30 CuadroTexto"/>
          <p:cNvSpPr/>
          <p:nvPr/>
        </p:nvSpPr>
        <p:spPr>
          <a:xfrm>
            <a:off x="4686480" y="6819840"/>
            <a:ext cx="20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Servicio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31 CuadroTexto"/>
          <p:cNvSpPr/>
          <p:nvPr/>
        </p:nvSpPr>
        <p:spPr>
          <a:xfrm>
            <a:off x="4686480" y="7248600"/>
            <a:ext cx="20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Industria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32 CuadroTexto"/>
          <p:cNvSpPr/>
          <p:nvPr/>
        </p:nvSpPr>
        <p:spPr>
          <a:xfrm>
            <a:off x="4686480" y="7658280"/>
            <a:ext cx="335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Instalaciones Públicas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33 CuadroTexto"/>
          <p:cNvSpPr/>
          <p:nvPr/>
        </p:nvSpPr>
        <p:spPr>
          <a:xfrm>
            <a:off x="4686480" y="8105760"/>
            <a:ext cx="450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70.000 nuevos residentes mensua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6" name="34 Conector recto de flecha"/>
          <p:cNvCxnSpPr/>
          <p:nvPr/>
        </p:nvCxnSpPr>
        <p:spPr>
          <a:xfrm>
            <a:off x="3900600" y="7799400"/>
            <a:ext cx="6433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77" name="35 Conector recto de flecha"/>
          <p:cNvCxnSpPr/>
          <p:nvPr/>
        </p:nvCxnSpPr>
        <p:spPr>
          <a:xfrm>
            <a:off x="3900600" y="8228160"/>
            <a:ext cx="6433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78" name="36 CuadroTexto"/>
          <p:cNvSpPr/>
          <p:nvPr/>
        </p:nvSpPr>
        <p:spPr>
          <a:xfrm>
            <a:off x="4686480" y="8534520"/>
            <a:ext cx="428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Smog 4 veces mas denso y mas toxic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9" name="37 Conector recto de flecha"/>
          <p:cNvCxnSpPr/>
          <p:nvPr/>
        </p:nvCxnSpPr>
        <p:spPr>
          <a:xfrm>
            <a:off x="3900600" y="8656200"/>
            <a:ext cx="64332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80" name="34 Cerrar llave"/>
          <p:cNvSpPr/>
          <p:nvPr/>
        </p:nvSpPr>
        <p:spPr>
          <a:xfrm>
            <a:off x="8472600" y="5943600"/>
            <a:ext cx="428400" cy="2786040"/>
          </a:xfrm>
          <a:custGeom>
            <a:avLst/>
            <a:gdLst>
              <a:gd name="textAreaLeft" fmla="*/ 0 w 428400"/>
              <a:gd name="textAreaRight" fmla="*/ 154800 w 428400"/>
              <a:gd name="textAreaTop" fmla="*/ 11160 h 2786040"/>
              <a:gd name="textAreaBottom" fmla="*/ 2774880 h 2786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39"/>
                  <a:pt x="10800" y="277"/>
                </a:cubicBezTo>
                <a:lnTo>
                  <a:pt x="10800" y="10523"/>
                </a:lnTo>
                <a:cubicBezTo>
                  <a:pt x="10800" y="10662"/>
                  <a:pt x="16200" y="10800"/>
                  <a:pt x="21600" y="10800"/>
                </a:cubicBezTo>
                <a:cubicBezTo>
                  <a:pt x="16200" y="10800"/>
                  <a:pt x="10800" y="10939"/>
                  <a:pt x="10800" y="11077"/>
                </a:cubicBezTo>
                <a:lnTo>
                  <a:pt x="10800" y="21323"/>
                </a:lnTo>
                <a:cubicBezTo>
                  <a:pt x="10800" y="21462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12 CuadroTexto"/>
          <p:cNvSpPr/>
          <p:nvPr/>
        </p:nvSpPr>
        <p:spPr>
          <a:xfrm>
            <a:off x="9401040" y="6513480"/>
            <a:ext cx="2000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Construir CIUDADES SOSTENIBL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2" name="37 Conector recto de flecha"/>
          <p:cNvCxnSpPr/>
          <p:nvPr/>
        </p:nvCxnSpPr>
        <p:spPr>
          <a:xfrm flipH="1">
            <a:off x="10186200" y="7086240"/>
            <a:ext cx="2520" cy="429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83" name="12 CuadroTexto"/>
          <p:cNvSpPr/>
          <p:nvPr/>
        </p:nvSpPr>
        <p:spPr>
          <a:xfrm>
            <a:off x="9401040" y="7705800"/>
            <a:ext cx="2000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Oportunidades a las generaciones futura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0" y="8688240"/>
            <a:ext cx="12801600" cy="576360"/>
          </a:xfrm>
          <a:prstGeom prst="rect">
            <a:avLst/>
          </a:prstGeom>
          <a:solidFill>
            <a:srgbClr val="000000">
              <a:alpha val="5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2"/>
          <p:cNvSpPr/>
          <p:nvPr/>
        </p:nvSpPr>
        <p:spPr>
          <a:xfrm>
            <a:off x="0" y="0"/>
            <a:ext cx="1287360" cy="98409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4"/>
          <p:cNvSpPr/>
          <p:nvPr/>
        </p:nvSpPr>
        <p:spPr>
          <a:xfrm rot="16200000">
            <a:off x="-2716560" y="3620160"/>
            <a:ext cx="669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Stylus BT"/>
              </a:rPr>
              <a:t>CIUDADES SOSTENIB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12 CuadroTexto"/>
          <p:cNvSpPr/>
          <p:nvPr/>
        </p:nvSpPr>
        <p:spPr>
          <a:xfrm>
            <a:off x="1971720" y="1157400"/>
            <a:ext cx="71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VI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8" name="13 Conector recto de flecha"/>
          <p:cNvCxnSpPr/>
          <p:nvPr/>
        </p:nvCxnSpPr>
        <p:spPr>
          <a:xfrm>
            <a:off x="2685960" y="1300320"/>
            <a:ext cx="6433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89" name="12 CuadroTexto"/>
          <p:cNvSpPr/>
          <p:nvPr/>
        </p:nvSpPr>
        <p:spPr>
          <a:xfrm>
            <a:off x="3543480" y="1157400"/>
            <a:ext cx="92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TIER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12 CuadroTexto"/>
          <p:cNvSpPr/>
          <p:nvPr/>
        </p:nvSpPr>
        <p:spPr>
          <a:xfrm>
            <a:off x="5186520" y="1157400"/>
            <a:ext cx="150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Sistema cerra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12 CuadroTexto"/>
          <p:cNvSpPr/>
          <p:nvPr/>
        </p:nvSpPr>
        <p:spPr>
          <a:xfrm>
            <a:off x="7472520" y="1157400"/>
            <a:ext cx="1428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Energía Sola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12 CuadroTexto"/>
          <p:cNvSpPr/>
          <p:nvPr/>
        </p:nvSpPr>
        <p:spPr>
          <a:xfrm>
            <a:off x="7543800" y="2014560"/>
            <a:ext cx="264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Fuente de energía primari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3" name="13 Conector recto de flecha"/>
          <p:cNvCxnSpPr/>
          <p:nvPr/>
        </p:nvCxnSpPr>
        <p:spPr>
          <a:xfrm>
            <a:off x="8758080" y="2943360"/>
            <a:ext cx="6433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94" name="13 Conector recto de flecha"/>
          <p:cNvCxnSpPr/>
          <p:nvPr/>
        </p:nvCxnSpPr>
        <p:spPr>
          <a:xfrm>
            <a:off x="8758080" y="3298320"/>
            <a:ext cx="64332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95" name="13 Conector recto de flecha"/>
          <p:cNvCxnSpPr/>
          <p:nvPr/>
        </p:nvCxnSpPr>
        <p:spPr>
          <a:xfrm>
            <a:off x="4329000" y="8085240"/>
            <a:ext cx="6433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96" name="13 Conector recto de flecha"/>
          <p:cNvCxnSpPr/>
          <p:nvPr/>
        </p:nvCxnSpPr>
        <p:spPr>
          <a:xfrm>
            <a:off x="6757920" y="1300320"/>
            <a:ext cx="6433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97" name="13 Conector recto de flecha"/>
          <p:cNvCxnSpPr/>
          <p:nvPr/>
        </p:nvCxnSpPr>
        <p:spPr>
          <a:xfrm>
            <a:off x="4471920" y="1300320"/>
            <a:ext cx="6433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98" name="18 Conector recto de flecha"/>
          <p:cNvCxnSpPr/>
          <p:nvPr/>
        </p:nvCxnSpPr>
        <p:spPr>
          <a:xfrm flipH="1">
            <a:off x="8043480" y="1514160"/>
            <a:ext cx="2160" cy="429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99" name="19 Conector recto de flecha"/>
          <p:cNvCxnSpPr/>
          <p:nvPr/>
        </p:nvCxnSpPr>
        <p:spPr>
          <a:xfrm flipH="1">
            <a:off x="8043480" y="2371320"/>
            <a:ext cx="2160" cy="429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00" name="12 CuadroTexto"/>
          <p:cNvSpPr/>
          <p:nvPr/>
        </p:nvSpPr>
        <p:spPr>
          <a:xfrm>
            <a:off x="7543800" y="2778120"/>
            <a:ext cx="264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Fotosíntesi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12 CuadroTexto"/>
          <p:cNvSpPr/>
          <p:nvPr/>
        </p:nvSpPr>
        <p:spPr>
          <a:xfrm>
            <a:off x="9401040" y="2778120"/>
            <a:ext cx="264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Vida a la vegetació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12 CuadroTexto"/>
          <p:cNvSpPr/>
          <p:nvPr/>
        </p:nvSpPr>
        <p:spPr>
          <a:xfrm>
            <a:off x="9401040" y="3157560"/>
            <a:ext cx="121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Oxígen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12 CuadroTexto"/>
          <p:cNvSpPr/>
          <p:nvPr/>
        </p:nvSpPr>
        <p:spPr>
          <a:xfrm>
            <a:off x="7543800" y="3871800"/>
            <a:ext cx="264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Proceso de descomposición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4" name="24 Conector recto de flecha"/>
          <p:cNvCxnSpPr/>
          <p:nvPr/>
        </p:nvCxnSpPr>
        <p:spPr>
          <a:xfrm flipH="1">
            <a:off x="8043480" y="4229280"/>
            <a:ext cx="2160" cy="429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05" name="25 Conector recto de flecha"/>
          <p:cNvCxnSpPr/>
          <p:nvPr/>
        </p:nvCxnSpPr>
        <p:spPr>
          <a:xfrm flipH="1">
            <a:off x="8043480" y="3443400"/>
            <a:ext cx="2160" cy="429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06" name="12 CuadroTexto"/>
          <p:cNvSpPr/>
          <p:nvPr/>
        </p:nvSpPr>
        <p:spPr>
          <a:xfrm>
            <a:off x="7543800" y="4657680"/>
            <a:ext cx="20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Combustibles Fósile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7" name="27 Conector recto de flecha"/>
          <p:cNvCxnSpPr/>
          <p:nvPr/>
        </p:nvCxnSpPr>
        <p:spPr>
          <a:xfrm>
            <a:off x="9472680" y="4800600"/>
            <a:ext cx="6433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08" name="28 Conector recto de flecha"/>
          <p:cNvCxnSpPr/>
          <p:nvPr/>
        </p:nvCxnSpPr>
        <p:spPr>
          <a:xfrm>
            <a:off x="9472680" y="5133960"/>
            <a:ext cx="6433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09" name="12 CuadroTexto"/>
          <p:cNvSpPr/>
          <p:nvPr/>
        </p:nvSpPr>
        <p:spPr>
          <a:xfrm>
            <a:off x="10115640" y="4657680"/>
            <a:ext cx="85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Carbón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12 CuadroTexto"/>
          <p:cNvSpPr/>
          <p:nvPr/>
        </p:nvSpPr>
        <p:spPr>
          <a:xfrm>
            <a:off x="10115640" y="499284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Petróleo 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32 Conector recto"/>
          <p:cNvSpPr/>
          <p:nvPr/>
        </p:nvSpPr>
        <p:spPr>
          <a:xfrm>
            <a:off x="7472520" y="5586480"/>
            <a:ext cx="37144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12 CuadroTexto"/>
          <p:cNvSpPr/>
          <p:nvPr/>
        </p:nvSpPr>
        <p:spPr>
          <a:xfrm>
            <a:off x="7543800" y="5707080"/>
            <a:ext cx="264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LIBERACIÓN DE ENERGÍA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12 CuadroTexto"/>
          <p:cNvSpPr/>
          <p:nvPr/>
        </p:nvSpPr>
        <p:spPr>
          <a:xfrm>
            <a:off x="7543800" y="6443640"/>
            <a:ext cx="264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Lluvia acida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4" name="37 Conector recto de flecha"/>
          <p:cNvCxnSpPr/>
          <p:nvPr/>
        </p:nvCxnSpPr>
        <p:spPr>
          <a:xfrm flipH="1">
            <a:off x="8043480" y="6800400"/>
            <a:ext cx="2160" cy="429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15" name="38 Conector recto de flecha"/>
          <p:cNvCxnSpPr/>
          <p:nvPr/>
        </p:nvCxnSpPr>
        <p:spPr>
          <a:xfrm flipH="1">
            <a:off x="8043480" y="6014520"/>
            <a:ext cx="2160" cy="429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16" name="12 CuadroTexto"/>
          <p:cNvSpPr/>
          <p:nvPr/>
        </p:nvSpPr>
        <p:spPr>
          <a:xfrm>
            <a:off x="7543800" y="7278840"/>
            <a:ext cx="264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CALENTAMIENTO GLOBAL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12 CuadroTexto"/>
          <p:cNvSpPr/>
          <p:nvPr/>
        </p:nvSpPr>
        <p:spPr>
          <a:xfrm>
            <a:off x="1971720" y="7921800"/>
            <a:ext cx="264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ENERGÍAS RENOVABL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8" name="13 Conector recto de flecha"/>
          <p:cNvCxnSpPr/>
          <p:nvPr/>
        </p:nvCxnSpPr>
        <p:spPr>
          <a:xfrm>
            <a:off x="4329000" y="8442360"/>
            <a:ext cx="6433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19" name="12 CuadroTexto"/>
          <p:cNvSpPr/>
          <p:nvPr/>
        </p:nvSpPr>
        <p:spPr>
          <a:xfrm>
            <a:off x="5043600" y="7872480"/>
            <a:ext cx="264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Viento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12 CuadroTexto"/>
          <p:cNvSpPr/>
          <p:nvPr/>
        </p:nvSpPr>
        <p:spPr>
          <a:xfrm>
            <a:off x="5043600" y="8278920"/>
            <a:ext cx="264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Lluvia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Picture 7" descr="http://www.monografias.com/trabajos13/lluvia/Image1389.jpg"/>
          <p:cNvPicPr/>
          <p:nvPr/>
        </p:nvPicPr>
        <p:blipFill>
          <a:blip r:embed="rId1"/>
          <a:stretch/>
        </p:blipFill>
        <p:spPr>
          <a:xfrm>
            <a:off x="2185920" y="1924200"/>
            <a:ext cx="1600200" cy="251928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9" descr="http://www.ecoclimatico.com/wp-content/uploads/2009/01/quema-de-gases.jpg"/>
          <p:cNvPicPr/>
          <p:nvPr/>
        </p:nvPicPr>
        <p:blipFill>
          <a:blip r:embed="rId2"/>
          <a:stretch/>
        </p:blipFill>
        <p:spPr>
          <a:xfrm>
            <a:off x="3471840" y="3478320"/>
            <a:ext cx="2428920" cy="182232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11" descr="http://www.gestionurbana.es/wp-content/uploads/2009/01/trafico1.jpg"/>
          <p:cNvPicPr/>
          <p:nvPr/>
        </p:nvPicPr>
        <p:blipFill>
          <a:blip r:embed="rId3"/>
          <a:stretch/>
        </p:blipFill>
        <p:spPr>
          <a:xfrm>
            <a:off x="2185920" y="4659480"/>
            <a:ext cx="1571760" cy="235584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13" descr="http://farm1.static.flickr.com/135/323825861_3484c0eed1.jpg"/>
          <p:cNvPicPr/>
          <p:nvPr/>
        </p:nvPicPr>
        <p:blipFill>
          <a:blip r:embed="rId4"/>
          <a:stretch/>
        </p:blipFill>
        <p:spPr>
          <a:xfrm>
            <a:off x="3432240" y="5727600"/>
            <a:ext cx="2468520" cy="164484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/>
          <p:nvPr/>
        </p:nvSpPr>
        <p:spPr>
          <a:xfrm>
            <a:off x="0" y="8688240"/>
            <a:ext cx="12801600" cy="576360"/>
          </a:xfrm>
          <a:prstGeom prst="rect">
            <a:avLst/>
          </a:prstGeom>
          <a:solidFill>
            <a:srgbClr val="000000">
              <a:alpha val="5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2"/>
          <p:cNvSpPr/>
          <p:nvPr/>
        </p:nvSpPr>
        <p:spPr>
          <a:xfrm>
            <a:off x="0" y="0"/>
            <a:ext cx="1287360" cy="98409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4"/>
          <p:cNvSpPr/>
          <p:nvPr/>
        </p:nvSpPr>
        <p:spPr>
          <a:xfrm rot="16200000">
            <a:off x="-2716560" y="3620160"/>
            <a:ext cx="669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Stylus BT"/>
              </a:rPr>
              <a:t>CIUDADES SOSTENIB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8" name="13 Conector recto de flecha"/>
          <p:cNvCxnSpPr/>
          <p:nvPr/>
        </p:nvCxnSpPr>
        <p:spPr>
          <a:xfrm>
            <a:off x="2971800" y="585360"/>
            <a:ext cx="64332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29" name="12 CuadroTexto"/>
          <p:cNvSpPr/>
          <p:nvPr/>
        </p:nvSpPr>
        <p:spPr>
          <a:xfrm>
            <a:off x="1828800" y="442800"/>
            <a:ext cx="121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CIUDADES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0" name="Picture 6" descr="C:\Users\cintia\Desktop\soll..jpg"/>
          <p:cNvPicPr/>
          <p:nvPr/>
        </p:nvPicPr>
        <p:blipFill>
          <a:blip r:embed="rId1"/>
          <a:stretch/>
        </p:blipFill>
        <p:spPr>
          <a:xfrm>
            <a:off x="4586400" y="0"/>
            <a:ext cx="8215200" cy="8837640"/>
          </a:xfrm>
          <a:prstGeom prst="rect">
            <a:avLst/>
          </a:prstGeom>
          <a:ln w="0">
            <a:noFill/>
          </a:ln>
        </p:spPr>
      </p:pic>
      <p:sp>
        <p:nvSpPr>
          <p:cNvPr id="331" name="12 CuadroTexto"/>
          <p:cNvSpPr/>
          <p:nvPr/>
        </p:nvSpPr>
        <p:spPr>
          <a:xfrm>
            <a:off x="3757680" y="1371600"/>
            <a:ext cx="328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Planificar y gestionar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12 CuadroTexto"/>
          <p:cNvSpPr/>
          <p:nvPr/>
        </p:nvSpPr>
        <p:spPr>
          <a:xfrm>
            <a:off x="3757680" y="2206800"/>
            <a:ext cx="2286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La explotación de recursos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12 CuadroTexto"/>
          <p:cNvSpPr/>
          <p:nvPr/>
        </p:nvSpPr>
        <p:spPr>
          <a:xfrm>
            <a:off x="3686040" y="420840"/>
            <a:ext cx="2500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Sistemas Ecológicos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4" name="13 Conector recto de flecha"/>
          <p:cNvCxnSpPr/>
          <p:nvPr/>
        </p:nvCxnSpPr>
        <p:spPr>
          <a:xfrm flipH="1">
            <a:off x="4470120" y="800280"/>
            <a:ext cx="2160" cy="429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35" name="14 Conector recto de flecha"/>
          <p:cNvCxnSpPr/>
          <p:nvPr/>
        </p:nvCxnSpPr>
        <p:spPr>
          <a:xfrm flipH="1">
            <a:off x="4471200" y="1728360"/>
            <a:ext cx="2520" cy="429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36" name="15 Conector recto de flecha"/>
          <p:cNvCxnSpPr/>
          <p:nvPr/>
        </p:nvCxnSpPr>
        <p:spPr>
          <a:xfrm flipH="1">
            <a:off x="4471200" y="2728440"/>
            <a:ext cx="2520" cy="429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37" name="12 CuadroTexto"/>
          <p:cNvSpPr/>
          <p:nvPr/>
        </p:nvSpPr>
        <p:spPr>
          <a:xfrm>
            <a:off x="3757680" y="3205080"/>
            <a:ext cx="2286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Medirse mediante: “huella ecológica”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8" name="17 Conector recto de flecha"/>
          <p:cNvCxnSpPr/>
          <p:nvPr/>
        </p:nvCxnSpPr>
        <p:spPr>
          <a:xfrm flipH="1">
            <a:off x="4471200" y="3728520"/>
            <a:ext cx="2520" cy="429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39" name="18 Conector recto de flecha"/>
          <p:cNvCxnSpPr/>
          <p:nvPr/>
        </p:nvCxnSpPr>
        <p:spPr>
          <a:xfrm flipH="1">
            <a:off x="4471200" y="4514400"/>
            <a:ext cx="2520" cy="429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40" name="19 Conector recto de flecha"/>
          <p:cNvCxnSpPr/>
          <p:nvPr/>
        </p:nvCxnSpPr>
        <p:spPr>
          <a:xfrm flipH="1">
            <a:off x="3041280" y="6515280"/>
            <a:ext cx="2160" cy="429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41" name="12 CuadroTexto"/>
          <p:cNvSpPr/>
          <p:nvPr/>
        </p:nvSpPr>
        <p:spPr>
          <a:xfrm>
            <a:off x="3757680" y="415764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Recursos Metropolitanos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12 CuadroTexto"/>
          <p:cNvSpPr/>
          <p:nvPr/>
        </p:nvSpPr>
        <p:spPr>
          <a:xfrm>
            <a:off x="3757680" y="4921200"/>
            <a:ext cx="2286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Lugares para albergar los desechos y la polució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12 CuadroTexto"/>
          <p:cNvSpPr/>
          <p:nvPr/>
        </p:nvSpPr>
        <p:spPr>
          <a:xfrm>
            <a:off x="1828800" y="6157800"/>
            <a:ext cx="307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CRECIMIENTO DEL PLANE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12 CuadroTexto"/>
          <p:cNvSpPr/>
          <p:nvPr/>
        </p:nvSpPr>
        <p:spPr>
          <a:xfrm>
            <a:off x="2114640" y="7015320"/>
            <a:ext cx="307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MAYOR CONSUM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12 CuadroTexto"/>
          <p:cNvSpPr/>
          <p:nvPr/>
        </p:nvSpPr>
        <p:spPr>
          <a:xfrm>
            <a:off x="2185920" y="7729560"/>
            <a:ext cx="307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MAYOR DEMAN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12 CuadroTexto"/>
          <p:cNvSpPr/>
          <p:nvPr/>
        </p:nvSpPr>
        <p:spPr>
          <a:xfrm>
            <a:off x="2471760" y="8564400"/>
            <a:ext cx="307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RECURS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7" name="26 Conector recto de flecha"/>
          <p:cNvCxnSpPr/>
          <p:nvPr/>
        </p:nvCxnSpPr>
        <p:spPr>
          <a:xfrm flipH="1">
            <a:off x="3042360" y="7300440"/>
            <a:ext cx="2520" cy="429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48" name="27 Conector recto de flecha"/>
          <p:cNvCxnSpPr/>
          <p:nvPr/>
        </p:nvCxnSpPr>
        <p:spPr>
          <a:xfrm flipH="1">
            <a:off x="3042360" y="8086320"/>
            <a:ext cx="2520" cy="429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49" name=""/>
          <p:cNvSpPr/>
          <p:nvPr/>
        </p:nvSpPr>
        <p:spPr>
          <a:xfrm>
            <a:off x="0" y="8688240"/>
            <a:ext cx="12801600" cy="576360"/>
          </a:xfrm>
          <a:prstGeom prst="rect">
            <a:avLst/>
          </a:prstGeom>
          <a:solidFill>
            <a:srgbClr val="000000">
              <a:alpha val="5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2"/>
          <p:cNvSpPr/>
          <p:nvPr/>
        </p:nvSpPr>
        <p:spPr>
          <a:xfrm>
            <a:off x="0" y="0"/>
            <a:ext cx="1287360" cy="98409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4"/>
          <p:cNvSpPr/>
          <p:nvPr/>
        </p:nvSpPr>
        <p:spPr>
          <a:xfrm rot="16200000">
            <a:off x="-2716560" y="3620160"/>
            <a:ext cx="669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Stylus BT"/>
              </a:rPr>
              <a:t>CIUDADES SOSTENIB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2" name="13 Conector recto de flecha"/>
          <p:cNvCxnSpPr/>
          <p:nvPr/>
        </p:nvCxnSpPr>
        <p:spPr>
          <a:xfrm>
            <a:off x="2900520" y="728640"/>
            <a:ext cx="6433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53" name="12 CuadroTexto"/>
          <p:cNvSpPr/>
          <p:nvPr/>
        </p:nvSpPr>
        <p:spPr>
          <a:xfrm>
            <a:off x="1971720" y="585720"/>
            <a:ext cx="107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Urbanist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4" name="8 Conector recto de flecha"/>
          <p:cNvCxnSpPr/>
          <p:nvPr/>
        </p:nvCxnSpPr>
        <p:spPr>
          <a:xfrm flipH="1">
            <a:off x="4257360" y="942480"/>
            <a:ext cx="2160" cy="429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55" name="12 CuadroTexto"/>
          <p:cNvSpPr/>
          <p:nvPr/>
        </p:nvSpPr>
        <p:spPr>
          <a:xfrm>
            <a:off x="3543480" y="585720"/>
            <a:ext cx="150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Herbert Girarde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12 CuadroTexto"/>
          <p:cNvSpPr/>
          <p:nvPr/>
        </p:nvSpPr>
        <p:spPr>
          <a:xfrm>
            <a:off x="3543480" y="1442880"/>
            <a:ext cx="150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CIUDAD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12 CuadroTexto"/>
          <p:cNvSpPr/>
          <p:nvPr/>
        </p:nvSpPr>
        <p:spPr>
          <a:xfrm>
            <a:off x="5329080" y="1442880"/>
            <a:ext cx="257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metabolismo” circula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12 CuadroTexto"/>
          <p:cNvSpPr/>
          <p:nvPr/>
        </p:nvSpPr>
        <p:spPr>
          <a:xfrm>
            <a:off x="8043840" y="144288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CONSUMO = se reduc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9" name="13 Conector recto de flecha"/>
          <p:cNvCxnSpPr/>
          <p:nvPr/>
        </p:nvCxnSpPr>
        <p:spPr>
          <a:xfrm>
            <a:off x="4686120" y="1585440"/>
            <a:ext cx="64332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60" name="14 Conector recto de flecha"/>
          <p:cNvCxnSpPr/>
          <p:nvPr/>
        </p:nvCxnSpPr>
        <p:spPr>
          <a:xfrm>
            <a:off x="7329600" y="1585440"/>
            <a:ext cx="64332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61" name="15 Conector recto de flecha"/>
          <p:cNvCxnSpPr/>
          <p:nvPr/>
        </p:nvCxnSpPr>
        <p:spPr>
          <a:xfrm>
            <a:off x="6829560" y="3300480"/>
            <a:ext cx="6433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62" name="16 Conector recto de flecha"/>
          <p:cNvCxnSpPr/>
          <p:nvPr/>
        </p:nvCxnSpPr>
        <p:spPr>
          <a:xfrm>
            <a:off x="4829040" y="4300560"/>
            <a:ext cx="6433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63" name="17 Conector recto de flecha"/>
          <p:cNvCxnSpPr/>
          <p:nvPr/>
        </p:nvCxnSpPr>
        <p:spPr>
          <a:xfrm flipH="1">
            <a:off x="4257360" y="1800360"/>
            <a:ext cx="2160" cy="429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64" name="18 Conector recto de flecha"/>
          <p:cNvCxnSpPr/>
          <p:nvPr/>
        </p:nvCxnSpPr>
        <p:spPr>
          <a:xfrm flipH="1">
            <a:off x="4257360" y="2657160"/>
            <a:ext cx="2160" cy="429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65" name="12 CuadroTexto"/>
          <p:cNvSpPr/>
          <p:nvPr/>
        </p:nvSpPr>
        <p:spPr>
          <a:xfrm>
            <a:off x="3543480" y="2300400"/>
            <a:ext cx="150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RENDIMIEN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12 CuadroTexto"/>
          <p:cNvSpPr/>
          <p:nvPr/>
        </p:nvSpPr>
        <p:spPr>
          <a:xfrm>
            <a:off x="3543480" y="3157560"/>
            <a:ext cx="335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REUTILIZACIÓN DE LOS RECURS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12 CuadroTexto"/>
          <p:cNvSpPr/>
          <p:nvPr/>
        </p:nvSpPr>
        <p:spPr>
          <a:xfrm>
            <a:off x="7472520" y="3157560"/>
            <a:ext cx="4429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DEBER = reciclar materiales, reducir gastos, conservar energía agotable, experimentar con las renovabl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12 CuadroTexto"/>
          <p:cNvSpPr/>
          <p:nvPr/>
        </p:nvSpPr>
        <p:spPr>
          <a:xfrm>
            <a:off x="1971720" y="4157640"/>
            <a:ext cx="285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Procesos Lineales de Produc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12 CuadroTexto"/>
          <p:cNvSpPr/>
          <p:nvPr/>
        </p:nvSpPr>
        <p:spPr>
          <a:xfrm>
            <a:off x="5686560" y="4135320"/>
            <a:ext cx="3357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Reemplazar por Procedimientos Circulares de uso y reutilizació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12 CuadroTexto"/>
          <p:cNvSpPr/>
          <p:nvPr/>
        </p:nvSpPr>
        <p:spPr>
          <a:xfrm>
            <a:off x="5686560" y="4921200"/>
            <a:ext cx="435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Reduce el impacto sobre el Medio Ambien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12 CuadroTexto"/>
          <p:cNvSpPr/>
          <p:nvPr/>
        </p:nvSpPr>
        <p:spPr>
          <a:xfrm>
            <a:off x="6543720" y="5778360"/>
            <a:ext cx="335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Planear Ciudad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12 CuadroTexto"/>
          <p:cNvSpPr/>
          <p:nvPr/>
        </p:nvSpPr>
        <p:spPr>
          <a:xfrm>
            <a:off x="8829720" y="5778360"/>
            <a:ext cx="142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SOSTENIB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28 Conector recto"/>
          <p:cNvSpPr/>
          <p:nvPr/>
        </p:nvSpPr>
        <p:spPr>
          <a:xfrm>
            <a:off x="5543640" y="4800600"/>
            <a:ext cx="3143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4" name="30 Conector recto de flecha"/>
          <p:cNvCxnSpPr/>
          <p:nvPr/>
        </p:nvCxnSpPr>
        <p:spPr>
          <a:xfrm flipH="1">
            <a:off x="7256160" y="5300280"/>
            <a:ext cx="2160" cy="429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75" name="31 Conector recto de flecha"/>
          <p:cNvCxnSpPr/>
          <p:nvPr/>
        </p:nvCxnSpPr>
        <p:spPr>
          <a:xfrm>
            <a:off x="8115120" y="5943600"/>
            <a:ext cx="6433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76" name="32 Conector recto"/>
          <p:cNvSpPr/>
          <p:nvPr/>
        </p:nvSpPr>
        <p:spPr>
          <a:xfrm>
            <a:off x="5543640" y="6229440"/>
            <a:ext cx="52862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12 CuadroTexto"/>
          <p:cNvSpPr/>
          <p:nvPr/>
        </p:nvSpPr>
        <p:spPr>
          <a:xfrm>
            <a:off x="6615000" y="6372360"/>
            <a:ext cx="335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Impacto sobre el entorno inmediat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12 CuadroTexto"/>
          <p:cNvSpPr/>
          <p:nvPr/>
        </p:nvSpPr>
        <p:spPr>
          <a:xfrm>
            <a:off x="10044000" y="6800760"/>
            <a:ext cx="171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Ecología urba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12 CuadroTexto"/>
          <p:cNvSpPr/>
          <p:nvPr/>
        </p:nvSpPr>
        <p:spPr>
          <a:xfrm>
            <a:off x="10044000" y="7157880"/>
            <a:ext cx="142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Economí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12 CuadroTexto"/>
          <p:cNvSpPr/>
          <p:nvPr/>
        </p:nvSpPr>
        <p:spPr>
          <a:xfrm>
            <a:off x="6615000" y="6800760"/>
            <a:ext cx="2786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Los factores deben entrelazars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1" name="39 Conector recto de flecha"/>
          <p:cNvCxnSpPr/>
          <p:nvPr/>
        </p:nvCxnSpPr>
        <p:spPr>
          <a:xfrm>
            <a:off x="9329760" y="6943320"/>
            <a:ext cx="64332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82" name="12 CuadroTexto"/>
          <p:cNvSpPr/>
          <p:nvPr/>
        </p:nvSpPr>
        <p:spPr>
          <a:xfrm>
            <a:off x="10044000" y="7493040"/>
            <a:ext cx="142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Sociología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12 CuadroTexto"/>
          <p:cNvSpPr/>
          <p:nvPr/>
        </p:nvSpPr>
        <p:spPr>
          <a:xfrm>
            <a:off x="10044000" y="8136000"/>
            <a:ext cx="207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Planificación Urbana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44 Conector recto"/>
          <p:cNvSpPr/>
          <p:nvPr/>
        </p:nvSpPr>
        <p:spPr>
          <a:xfrm>
            <a:off x="9901080" y="7942320"/>
            <a:ext cx="19288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12 CuadroTexto"/>
          <p:cNvSpPr/>
          <p:nvPr/>
        </p:nvSpPr>
        <p:spPr>
          <a:xfrm>
            <a:off x="2043000" y="6800760"/>
            <a:ext cx="314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Soluciones ecológicas y social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6" name="47 Conector recto de flecha"/>
          <p:cNvCxnSpPr/>
          <p:nvPr/>
        </p:nvCxnSpPr>
        <p:spPr>
          <a:xfrm flipH="1">
            <a:off x="3257280" y="7157520"/>
            <a:ext cx="2160" cy="429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87" name="12 CuadroTexto"/>
          <p:cNvSpPr/>
          <p:nvPr/>
        </p:nvSpPr>
        <p:spPr>
          <a:xfrm>
            <a:off x="2043000" y="7635960"/>
            <a:ext cx="3143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Construir sociedades mas sanas, vivas y abierta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0" y="8688240"/>
            <a:ext cx="12801600" cy="576360"/>
          </a:xfrm>
          <a:prstGeom prst="rect">
            <a:avLst/>
          </a:prstGeom>
          <a:solidFill>
            <a:srgbClr val="000000">
              <a:alpha val="5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2"/>
          <p:cNvSpPr/>
          <p:nvPr/>
        </p:nvSpPr>
        <p:spPr>
          <a:xfrm>
            <a:off x="0" y="0"/>
            <a:ext cx="1287360" cy="98409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4"/>
          <p:cNvSpPr/>
          <p:nvPr/>
        </p:nvSpPr>
        <p:spPr>
          <a:xfrm rot="16200000">
            <a:off x="-2716560" y="3620160"/>
            <a:ext cx="669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Stylus BT"/>
              </a:rPr>
              <a:t>CIUDADES SOSTENIB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1" name="Picture 6" descr=""/>
          <p:cNvPicPr/>
          <p:nvPr/>
        </p:nvPicPr>
        <p:blipFill>
          <a:blip r:embed="rId1"/>
          <a:stretch/>
        </p:blipFill>
        <p:spPr>
          <a:xfrm>
            <a:off x="3538440" y="0"/>
            <a:ext cx="9220320" cy="9086760"/>
          </a:xfrm>
          <a:prstGeom prst="rect">
            <a:avLst/>
          </a:prstGeom>
          <a:ln w="0">
            <a:noFill/>
          </a:ln>
        </p:spPr>
      </p:pic>
      <p:sp>
        <p:nvSpPr>
          <p:cNvPr id="392" name=""/>
          <p:cNvSpPr/>
          <p:nvPr/>
        </p:nvSpPr>
        <p:spPr>
          <a:xfrm>
            <a:off x="0" y="8688240"/>
            <a:ext cx="12801600" cy="576360"/>
          </a:xfrm>
          <a:prstGeom prst="rect">
            <a:avLst/>
          </a:prstGeom>
          <a:solidFill>
            <a:srgbClr val="000000">
              <a:alpha val="5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2"/>
          <p:cNvSpPr/>
          <p:nvPr/>
        </p:nvSpPr>
        <p:spPr>
          <a:xfrm>
            <a:off x="0" y="0"/>
            <a:ext cx="1287360" cy="98409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4"/>
          <p:cNvSpPr/>
          <p:nvPr/>
        </p:nvSpPr>
        <p:spPr>
          <a:xfrm rot="16200000">
            <a:off x="-2716560" y="3620160"/>
            <a:ext cx="669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Stylus BT"/>
              </a:rPr>
              <a:t>CIUDADES SOSTENIB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5" name="7 Conector recto de flecha"/>
          <p:cNvCxnSpPr/>
          <p:nvPr/>
        </p:nvCxnSpPr>
        <p:spPr>
          <a:xfrm>
            <a:off x="3614760" y="3514320"/>
            <a:ext cx="64332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96" name="12 CuadroTexto"/>
          <p:cNvSpPr/>
          <p:nvPr/>
        </p:nvSpPr>
        <p:spPr>
          <a:xfrm>
            <a:off x="2043000" y="1300320"/>
            <a:ext cx="342900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CIUDAD DENS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S. XIX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Ciudades industrial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-Problema de masificació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-Pobrez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-Insalubrida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-Acantillado inadecuado (cólera y tifus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10 CuadroTexto"/>
          <p:cNvSpPr/>
          <p:nvPr/>
        </p:nvSpPr>
        <p:spPr>
          <a:xfrm>
            <a:off x="2043000" y="337176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-Industrias tóxic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11 CuadroTexto"/>
          <p:cNvSpPr/>
          <p:nvPr/>
        </p:nvSpPr>
        <p:spPr>
          <a:xfrm>
            <a:off x="4471920" y="3300480"/>
            <a:ext cx="2000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Crecían junto a las vivienda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12 CuadroTexto"/>
          <p:cNvSpPr/>
          <p:nvPr/>
        </p:nvSpPr>
        <p:spPr>
          <a:xfrm>
            <a:off x="2043000" y="3943440"/>
            <a:ext cx="4357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-Poca esperanza de vid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-Desplazar industrias = ciudad jardín / new tow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14 Conector recto"/>
          <p:cNvSpPr/>
          <p:nvPr/>
        </p:nvSpPr>
        <p:spPr>
          <a:xfrm flipH="1">
            <a:off x="6827400" y="1371600"/>
            <a:ext cx="1800" cy="314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15 CuadroTexto"/>
          <p:cNvSpPr/>
          <p:nvPr/>
        </p:nvSpPr>
        <p:spPr>
          <a:xfrm>
            <a:off x="2043000" y="585720"/>
            <a:ext cx="285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INGRATER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16 CuadroTexto"/>
          <p:cNvSpPr/>
          <p:nvPr/>
        </p:nvSpPr>
        <p:spPr>
          <a:xfrm>
            <a:off x="7329600" y="1300320"/>
            <a:ext cx="78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HO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17 CuadroTexto"/>
          <p:cNvSpPr/>
          <p:nvPr/>
        </p:nvSpPr>
        <p:spPr>
          <a:xfrm>
            <a:off x="7329600" y="1870200"/>
            <a:ext cx="25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Industrias contaminan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04" name="21 Conector recto de flecha"/>
          <p:cNvCxnSpPr/>
          <p:nvPr/>
        </p:nvCxnSpPr>
        <p:spPr>
          <a:xfrm>
            <a:off x="9686520" y="2013120"/>
            <a:ext cx="5007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05" name="22 CuadroTexto"/>
          <p:cNvSpPr/>
          <p:nvPr/>
        </p:nvSpPr>
        <p:spPr>
          <a:xfrm>
            <a:off x="10258560" y="1847880"/>
            <a:ext cx="2428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Desaparecen de ciudades del 1° Mund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23 CuadroTexto"/>
          <p:cNvSpPr/>
          <p:nvPr/>
        </p:nvSpPr>
        <p:spPr>
          <a:xfrm>
            <a:off x="7257960" y="2416320"/>
            <a:ext cx="41436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-Fabricación ecológic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-Fuentes de energías mas limpia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-Avanzado sistema de eliminación de residuo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-Menor riesgo sanitari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-Ventajas Sociales = proximida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vivir en compañí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7" name="Picture 4" descr="http://uy.kalipedia.com/kalipediamedia/geografia/media/200704/17/geogeneral/20070417klpgeogra_83_Ies_SCO.jpg"/>
          <p:cNvPicPr/>
          <p:nvPr/>
        </p:nvPicPr>
        <p:blipFill>
          <a:blip r:embed="rId1"/>
          <a:stretch/>
        </p:blipFill>
        <p:spPr>
          <a:xfrm>
            <a:off x="1471680" y="4932360"/>
            <a:ext cx="2500200" cy="229716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6" descr="http://html.rincondelvago.com/000648585.jpg"/>
          <p:cNvPicPr/>
          <p:nvPr/>
        </p:nvPicPr>
        <p:blipFill>
          <a:blip r:embed="rId2"/>
          <a:stretch/>
        </p:blipFill>
        <p:spPr>
          <a:xfrm>
            <a:off x="3660840" y="4657680"/>
            <a:ext cx="2954160" cy="196380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8" descr="http://farm1.static.flickr.com/10/13320788_cdc70d4933.jpg"/>
          <p:cNvPicPr/>
          <p:nvPr/>
        </p:nvPicPr>
        <p:blipFill>
          <a:blip r:embed="rId3"/>
          <a:stretch/>
        </p:blipFill>
        <p:spPr>
          <a:xfrm>
            <a:off x="7472520" y="4586400"/>
            <a:ext cx="3000240" cy="2039760"/>
          </a:xfrm>
          <a:prstGeom prst="rect">
            <a:avLst/>
          </a:prstGeom>
          <a:ln w="0">
            <a:noFill/>
          </a:ln>
        </p:spPr>
      </p:pic>
      <p:sp>
        <p:nvSpPr>
          <p:cNvPr id="410" name="28 CuadroTexto"/>
          <p:cNvSpPr/>
          <p:nvPr/>
        </p:nvSpPr>
        <p:spPr>
          <a:xfrm>
            <a:off x="2114640" y="7493040"/>
            <a:ext cx="20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CIUDAD COMPAC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11" name="13 Conector recto de flecha"/>
          <p:cNvCxnSpPr/>
          <p:nvPr/>
        </p:nvCxnSpPr>
        <p:spPr>
          <a:xfrm>
            <a:off x="4043520" y="7658280"/>
            <a:ext cx="6433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12" name="30 Conector recto de flecha"/>
          <p:cNvCxnSpPr/>
          <p:nvPr/>
        </p:nvCxnSpPr>
        <p:spPr>
          <a:xfrm flipH="1">
            <a:off x="5543280" y="7872480"/>
            <a:ext cx="2160" cy="429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13" name="31 CuadroTexto"/>
          <p:cNvSpPr/>
          <p:nvPr/>
        </p:nvSpPr>
        <p:spPr>
          <a:xfrm>
            <a:off x="4757760" y="8350200"/>
            <a:ext cx="3143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La comunidades pueden integrars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32 CuadroTexto"/>
          <p:cNvSpPr/>
          <p:nvPr/>
        </p:nvSpPr>
        <p:spPr>
          <a:xfrm>
            <a:off x="8543880" y="8350200"/>
            <a:ext cx="3214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SOCIEDAD  mas  ECONOM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33 CuadroTexto"/>
          <p:cNvSpPr/>
          <p:nvPr/>
        </p:nvSpPr>
        <p:spPr>
          <a:xfrm>
            <a:off x="4757760" y="7515360"/>
            <a:ext cx="20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Ventajas ecológica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16" name="13 Conector recto de flecha"/>
          <p:cNvCxnSpPr/>
          <p:nvPr/>
        </p:nvCxnSpPr>
        <p:spPr>
          <a:xfrm>
            <a:off x="7758000" y="8515440"/>
            <a:ext cx="6433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17" name=""/>
          <p:cNvSpPr/>
          <p:nvPr/>
        </p:nvSpPr>
        <p:spPr>
          <a:xfrm>
            <a:off x="0" y="8688240"/>
            <a:ext cx="12801600" cy="576360"/>
          </a:xfrm>
          <a:prstGeom prst="rect">
            <a:avLst/>
          </a:prstGeom>
          <a:solidFill>
            <a:srgbClr val="000000">
              <a:alpha val="5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2"/>
          <p:cNvSpPr/>
          <p:nvPr/>
        </p:nvSpPr>
        <p:spPr>
          <a:xfrm>
            <a:off x="0" y="0"/>
            <a:ext cx="1287360" cy="98409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4"/>
          <p:cNvSpPr/>
          <p:nvPr/>
        </p:nvSpPr>
        <p:spPr>
          <a:xfrm rot="16200000">
            <a:off x="-2716560" y="3620160"/>
            <a:ext cx="669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Stylus BT"/>
              </a:rPr>
              <a:t>CIUDADES SOSTENIB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5 CuadroTexto"/>
          <p:cNvSpPr/>
          <p:nvPr/>
        </p:nvSpPr>
        <p:spPr>
          <a:xfrm>
            <a:off x="2185920" y="942840"/>
            <a:ext cx="2786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PLANIFICACION URBA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1" name="7 Conector recto de flecha"/>
          <p:cNvCxnSpPr/>
          <p:nvPr/>
        </p:nvCxnSpPr>
        <p:spPr>
          <a:xfrm>
            <a:off x="4686120" y="1085400"/>
            <a:ext cx="50076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22" name="8 CuadroTexto"/>
          <p:cNvSpPr/>
          <p:nvPr/>
        </p:nvSpPr>
        <p:spPr>
          <a:xfrm>
            <a:off x="5257800" y="942840"/>
            <a:ext cx="142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Sistema Viari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11 CuadroTexto"/>
          <p:cNvSpPr/>
          <p:nvPr/>
        </p:nvSpPr>
        <p:spPr>
          <a:xfrm>
            <a:off x="7115040" y="942840"/>
            <a:ext cx="2786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Alentado por industrias del mundo desarrollad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Industria automovilist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4" name="14 Conector recto de flecha"/>
          <p:cNvCxnSpPr/>
          <p:nvPr/>
        </p:nvCxnSpPr>
        <p:spPr>
          <a:xfrm>
            <a:off x="6614640" y="1085400"/>
            <a:ext cx="50076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425" name="Picture 7" descr="http://www.argentochrysler.com.ar/images/Imagenes/Valiant_IV_02_(Autos_de_Epoca_Ene-2003).jpg"/>
          <p:cNvPicPr/>
          <p:nvPr/>
        </p:nvPicPr>
        <p:blipFill>
          <a:blip r:embed="rId1"/>
          <a:stretch/>
        </p:blipFill>
        <p:spPr>
          <a:xfrm>
            <a:off x="4425840" y="1943280"/>
            <a:ext cx="2227320" cy="142848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9" descr="http://newsimg.bbc.co.uk/media/images/45399000/jpg/_45399655_090121_alemania.jpg"/>
          <p:cNvPicPr/>
          <p:nvPr/>
        </p:nvPicPr>
        <p:blipFill>
          <a:blip r:embed="rId2"/>
          <a:stretch/>
        </p:blipFill>
        <p:spPr>
          <a:xfrm>
            <a:off x="6472080" y="2800440"/>
            <a:ext cx="1933560" cy="144756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11" descr="http://www.elsemanario.com.mx/images_news/aaa/auto/Carros_fabrica_bloomberg_int.jpg"/>
          <p:cNvPicPr/>
          <p:nvPr/>
        </p:nvPicPr>
        <p:blipFill>
          <a:blip r:embed="rId3"/>
          <a:stretch/>
        </p:blipFill>
        <p:spPr>
          <a:xfrm>
            <a:off x="8258040" y="1943280"/>
            <a:ext cx="2857680" cy="162072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13" descr="http://bradbarnett.net/mustangs/timeline/69-70/70/1970AssemblyLine.jpg"/>
          <p:cNvPicPr/>
          <p:nvPr/>
        </p:nvPicPr>
        <p:blipFill>
          <a:blip r:embed="rId4"/>
          <a:stretch/>
        </p:blipFill>
        <p:spPr>
          <a:xfrm>
            <a:off x="3114720" y="2514600"/>
            <a:ext cx="1500120" cy="1817640"/>
          </a:xfrm>
          <a:prstGeom prst="rect">
            <a:avLst/>
          </a:prstGeom>
          <a:ln w="0">
            <a:noFill/>
          </a:ln>
        </p:spPr>
      </p:pic>
      <p:cxnSp>
        <p:nvCxnSpPr>
          <p:cNvPr id="429" name="19 Conector recto de flecha"/>
          <p:cNvCxnSpPr/>
          <p:nvPr/>
        </p:nvCxnSpPr>
        <p:spPr>
          <a:xfrm>
            <a:off x="5043240" y="5086440"/>
            <a:ext cx="5007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30" name="23 Conector recto de flecha"/>
          <p:cNvCxnSpPr/>
          <p:nvPr/>
        </p:nvCxnSpPr>
        <p:spPr>
          <a:xfrm flipH="1">
            <a:off x="6543360" y="522936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31" name="25 CuadroTexto"/>
          <p:cNvSpPr/>
          <p:nvPr/>
        </p:nvSpPr>
        <p:spPr>
          <a:xfrm>
            <a:off x="2043000" y="4943520"/>
            <a:ext cx="307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MODERNA  CIUDAD  COMPAC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26 CuadroTexto"/>
          <p:cNvSpPr/>
          <p:nvPr/>
        </p:nvSpPr>
        <p:spPr>
          <a:xfrm>
            <a:off x="5614920" y="4921200"/>
            <a:ext cx="2786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Predominio del Automóvi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27 CuadroTexto"/>
          <p:cNvSpPr/>
          <p:nvPr/>
        </p:nvSpPr>
        <p:spPr>
          <a:xfrm>
            <a:off x="5614920" y="5564160"/>
            <a:ext cx="2786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Actividad social y comercia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4" name="28 Conector recto de flecha"/>
          <p:cNvCxnSpPr/>
          <p:nvPr/>
        </p:nvCxnSpPr>
        <p:spPr>
          <a:xfrm flipH="1">
            <a:off x="6543360" y="587232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35" name="29 Conector recto de flecha"/>
          <p:cNvCxnSpPr/>
          <p:nvPr/>
        </p:nvCxnSpPr>
        <p:spPr>
          <a:xfrm flipH="1">
            <a:off x="6543360" y="65152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36" name="30 Conector recto de flecha"/>
          <p:cNvCxnSpPr/>
          <p:nvPr/>
        </p:nvCxnSpPr>
        <p:spPr>
          <a:xfrm flipH="1">
            <a:off x="6543360" y="722952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37" name="31 CuadroTexto"/>
          <p:cNvSpPr/>
          <p:nvPr/>
        </p:nvSpPr>
        <p:spPr>
          <a:xfrm>
            <a:off x="5829480" y="6207120"/>
            <a:ext cx="2786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Transporte Públic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32 CuadroTexto"/>
          <p:cNvSpPr/>
          <p:nvPr/>
        </p:nvSpPr>
        <p:spPr>
          <a:xfrm>
            <a:off x="6043680" y="6921360"/>
            <a:ext cx="2786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BARR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33 CuadroTexto"/>
          <p:cNvSpPr/>
          <p:nvPr/>
        </p:nvSpPr>
        <p:spPr>
          <a:xfrm>
            <a:off x="5686560" y="7658280"/>
            <a:ext cx="2786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RED DE BARR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0" name="34 Conector recto de flecha"/>
          <p:cNvCxnSpPr/>
          <p:nvPr/>
        </p:nvCxnSpPr>
        <p:spPr>
          <a:xfrm>
            <a:off x="7400520" y="7800480"/>
            <a:ext cx="50076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41" name="35 CuadroTexto"/>
          <p:cNvSpPr/>
          <p:nvPr/>
        </p:nvSpPr>
        <p:spPr>
          <a:xfrm>
            <a:off x="7900920" y="7658280"/>
            <a:ext cx="2786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Parques, espacios públicos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2" name="36 Conector recto de flecha"/>
          <p:cNvCxnSpPr/>
          <p:nvPr/>
        </p:nvCxnSpPr>
        <p:spPr>
          <a:xfrm flipH="1">
            <a:off x="8900280" y="801540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43" name="37 CuadroTexto"/>
          <p:cNvSpPr/>
          <p:nvPr/>
        </p:nvSpPr>
        <p:spPr>
          <a:xfrm>
            <a:off x="7900920" y="8421840"/>
            <a:ext cx="378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Integración de distintas actividades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4" name="38 Conector recto de flecha"/>
          <p:cNvCxnSpPr/>
          <p:nvPr/>
        </p:nvCxnSpPr>
        <p:spPr>
          <a:xfrm>
            <a:off x="8043480" y="5729400"/>
            <a:ext cx="5007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45" name="39 CuadroTexto"/>
          <p:cNvSpPr/>
          <p:nvPr/>
        </p:nvSpPr>
        <p:spPr>
          <a:xfrm>
            <a:off x="8615520" y="5564160"/>
            <a:ext cx="2786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Trabajo y servicios local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0" y="8688240"/>
            <a:ext cx="12801600" cy="576360"/>
          </a:xfrm>
          <a:prstGeom prst="rect">
            <a:avLst/>
          </a:prstGeom>
          <a:solidFill>
            <a:srgbClr val="000000">
              <a:alpha val="5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2"/>
          <p:cNvSpPr/>
          <p:nvPr/>
        </p:nvSpPr>
        <p:spPr>
          <a:xfrm>
            <a:off x="0" y="0"/>
            <a:ext cx="1287360" cy="98409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4"/>
          <p:cNvSpPr/>
          <p:nvPr/>
        </p:nvSpPr>
        <p:spPr>
          <a:xfrm rot="16200000">
            <a:off x="-2716560" y="3620160"/>
            <a:ext cx="669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Stylus BT"/>
              </a:rPr>
              <a:t>CIUDADES SOSTENIB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9" name="Picture 1" descr=""/>
          <p:cNvPicPr/>
          <p:nvPr/>
        </p:nvPicPr>
        <p:blipFill>
          <a:blip r:embed="rId1"/>
          <a:stretch/>
        </p:blipFill>
        <p:spPr>
          <a:xfrm>
            <a:off x="2638440" y="1514520"/>
            <a:ext cx="8477280" cy="318276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2" descr=""/>
          <p:cNvPicPr/>
          <p:nvPr/>
        </p:nvPicPr>
        <p:blipFill>
          <a:blip r:embed="rId2"/>
          <a:stretch/>
        </p:blipFill>
        <p:spPr>
          <a:xfrm>
            <a:off x="2757600" y="5800680"/>
            <a:ext cx="8124840" cy="3286080"/>
          </a:xfrm>
          <a:prstGeom prst="rect">
            <a:avLst/>
          </a:prstGeom>
          <a:ln w="0">
            <a:noFill/>
          </a:ln>
        </p:spPr>
      </p:pic>
      <p:sp>
        <p:nvSpPr>
          <p:cNvPr id="451" name="9 CuadroTexto"/>
          <p:cNvSpPr/>
          <p:nvPr/>
        </p:nvSpPr>
        <p:spPr>
          <a:xfrm>
            <a:off x="1971720" y="442800"/>
            <a:ext cx="207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NODOS COMPACT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2" name="12 Conector recto de flecha"/>
          <p:cNvCxnSpPr/>
          <p:nvPr/>
        </p:nvCxnSpPr>
        <p:spPr>
          <a:xfrm>
            <a:off x="3971520" y="585360"/>
            <a:ext cx="50076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53" name="13 CuadroTexto"/>
          <p:cNvSpPr/>
          <p:nvPr/>
        </p:nvSpPr>
        <p:spPr>
          <a:xfrm>
            <a:off x="4543560" y="442800"/>
            <a:ext cx="121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USO MIX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14 CuadroTexto"/>
          <p:cNvSpPr/>
          <p:nvPr/>
        </p:nvSpPr>
        <p:spPr>
          <a:xfrm>
            <a:off x="2124000" y="4994280"/>
            <a:ext cx="2919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NODOS COMPACTOS UNID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5" name="15 Conector recto de flecha"/>
          <p:cNvCxnSpPr/>
          <p:nvPr/>
        </p:nvCxnSpPr>
        <p:spPr>
          <a:xfrm>
            <a:off x="5757480" y="585360"/>
            <a:ext cx="50076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56" name="17 Conector recto de flecha"/>
          <p:cNvCxnSpPr/>
          <p:nvPr/>
        </p:nvCxnSpPr>
        <p:spPr>
          <a:xfrm>
            <a:off x="4900320" y="5156280"/>
            <a:ext cx="5007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57" name="18 CuadroTexto"/>
          <p:cNvSpPr/>
          <p:nvPr/>
        </p:nvSpPr>
        <p:spPr>
          <a:xfrm>
            <a:off x="6329520" y="442800"/>
            <a:ext cx="450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MENOR DESPLAZAMIENTO VEHICUL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8" name="19 Conector recto de flecha"/>
          <p:cNvCxnSpPr/>
          <p:nvPr/>
        </p:nvCxnSpPr>
        <p:spPr>
          <a:xfrm>
            <a:off x="5757480" y="920880"/>
            <a:ext cx="5007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59" name="20 CuadroTexto"/>
          <p:cNvSpPr/>
          <p:nvPr/>
        </p:nvSpPr>
        <p:spPr>
          <a:xfrm>
            <a:off x="6329520" y="777960"/>
            <a:ext cx="450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BULLICIOSOS BARR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21 CuadroTexto"/>
          <p:cNvSpPr/>
          <p:nvPr/>
        </p:nvSpPr>
        <p:spPr>
          <a:xfrm>
            <a:off x="5410080" y="5014800"/>
            <a:ext cx="2919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TRANSPORTE PUBLIC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22 CuadroTexto"/>
          <p:cNvSpPr/>
          <p:nvPr/>
        </p:nvSpPr>
        <p:spPr>
          <a:xfrm>
            <a:off x="8186760" y="5014800"/>
            <a:ext cx="414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RESPUESTA A LAS LIMITACIONES LOCA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2" name="23 Conector recto de flecha"/>
          <p:cNvCxnSpPr/>
          <p:nvPr/>
        </p:nvCxnSpPr>
        <p:spPr>
          <a:xfrm>
            <a:off x="7615080" y="5157360"/>
            <a:ext cx="50112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63" name=""/>
          <p:cNvSpPr/>
          <p:nvPr/>
        </p:nvSpPr>
        <p:spPr>
          <a:xfrm>
            <a:off x="0" y="8688240"/>
            <a:ext cx="12801600" cy="576360"/>
          </a:xfrm>
          <a:prstGeom prst="rect">
            <a:avLst/>
          </a:prstGeom>
          <a:solidFill>
            <a:srgbClr val="000000">
              <a:alpha val="5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1287360" cy="97693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8688240"/>
            <a:ext cx="12801600" cy="576360"/>
          </a:xfrm>
          <a:prstGeom prst="rect">
            <a:avLst/>
          </a:prstGeom>
          <a:solidFill>
            <a:srgbClr val="000000">
              <a:alpha val="5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rot="16200000">
            <a:off x="-2610000" y="2800440"/>
            <a:ext cx="669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Stylus BT"/>
              </a:rPr>
              <a:t>LA CULTURA DE LAS CIUDA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287360" y="263520"/>
            <a:ext cx="5834160" cy="642600"/>
          </a:xfrm>
          <a:prstGeom prst="rect">
            <a:avLst/>
          </a:prstGeom>
          <a:solidFill>
            <a:srgbClr val="c0c0c0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Stylus BT"/>
              </a:rPr>
              <a:t>Una mirada general de las ciudades y sus recurs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576440" y="1344600"/>
            <a:ext cx="237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IUDAD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5105520" y="1455840"/>
            <a:ext cx="7408800" cy="61768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360440" y="2016000"/>
            <a:ext cx="2376360" cy="11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mo q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ume recurs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duce residuo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936800" y="17035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432080" y="1344600"/>
            <a:ext cx="1223640" cy="360360"/>
          </a:xfrm>
          <a:prstGeom prst="rect">
            <a:avLst/>
          </a:prstGeom>
          <a:solidFill>
            <a:srgbClr val="808080">
              <a:alpha val="1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504800" y="3505320"/>
            <a:ext cx="1224000" cy="360360"/>
          </a:xfrm>
          <a:prstGeom prst="rect">
            <a:avLst/>
          </a:prstGeom>
          <a:solidFill>
            <a:srgbClr val="808080">
              <a:alpha val="1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576440" y="3505320"/>
            <a:ext cx="237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MBRE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936800" y="38638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432080" y="5087880"/>
            <a:ext cx="345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BLACION – ENTORNO- RECURS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360440" y="4297320"/>
            <a:ext cx="23763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ifica el medio en s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pio benefici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576440" y="5935680"/>
            <a:ext cx="237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BLEMA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576440" y="5881680"/>
            <a:ext cx="1224000" cy="360360"/>
          </a:xfrm>
          <a:prstGeom prst="rect">
            <a:avLst/>
          </a:prstGeom>
          <a:solidFill>
            <a:srgbClr val="808080">
              <a:alpha val="1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936800" y="62406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504800" y="6600960"/>
            <a:ext cx="23767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La premura consumista puede convertir en irrenovables los recursos renovables, o renovables solo tras largos periodos de tiemp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105520" y="7883640"/>
            <a:ext cx="6840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La mayoria de estos indices de crecimiento se dan en los paises mas pobres, con menos recurso, y menor capacidad para gestionar sus residuo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0"/>
            <a:ext cx="1287360" cy="97693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0" y="8688240"/>
            <a:ext cx="12801600" cy="576360"/>
          </a:xfrm>
          <a:prstGeom prst="rect">
            <a:avLst/>
          </a:prstGeom>
          <a:solidFill>
            <a:srgbClr val="000000">
              <a:alpha val="5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rot="16200000">
            <a:off x="-2610000" y="2800440"/>
            <a:ext cx="669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Stylus BT"/>
              </a:rPr>
              <a:t>LA CULTURA DE LAS CIUDA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87360" y="263520"/>
            <a:ext cx="5834160" cy="368280"/>
          </a:xfrm>
          <a:prstGeom prst="rect">
            <a:avLst/>
          </a:prstGeom>
          <a:solidFill>
            <a:srgbClr val="c0c0c0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Stylus BT"/>
              </a:rPr>
              <a:t>Impacto Ecolog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647720" y="895320"/>
            <a:ext cx="590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LIMINACION DE RESIDUOS  = AGOTAMIENTO DE RECURSO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576440" y="2197080"/>
            <a:ext cx="2376360" cy="87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-Lluvia Aci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-Agujero en capa de ozo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-Cambio climatico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152800" y="17748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647720" y="1415880"/>
            <a:ext cx="1297080" cy="360360"/>
          </a:xfrm>
          <a:prstGeom prst="rect">
            <a:avLst/>
          </a:prstGeom>
          <a:solidFill>
            <a:srgbClr val="808080">
              <a:alpha val="1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720800" y="3576600"/>
            <a:ext cx="1224000" cy="360360"/>
          </a:xfrm>
          <a:prstGeom prst="rect">
            <a:avLst/>
          </a:prstGeom>
          <a:solidFill>
            <a:srgbClr val="808080">
              <a:alpha val="1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792440" y="3576600"/>
            <a:ext cx="237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FECT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152800" y="39355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576440" y="4368960"/>
            <a:ext cx="2376360" cy="18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AutoNum type="arabicParenR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Lluvia habitual donde no lo es o deje de hacerlo alli donde antes lo era/ cambio de temperatu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AutoNum type="arabicParenR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Niveles Oceanic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(aumento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647720" y="1415880"/>
            <a:ext cx="237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BLEMAS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13520" y="7464600"/>
            <a:ext cx="5113440" cy="78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-El mayor crecimiento se ha producido en las </a:t>
            </a: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ciudad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-Cuanto</a:t>
            </a: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 mayor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sea el numero de habitantes, </a:t>
            </a: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mayor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sera la presion sobre el entorno.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032440" y="5592600"/>
            <a:ext cx="2433600" cy="18511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5353200" y="3648240"/>
            <a:ext cx="1547640" cy="170316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4816440" y="1704960"/>
            <a:ext cx="2727360" cy="18208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577880" y="6313320"/>
            <a:ext cx="2160720" cy="360360"/>
          </a:xfrm>
          <a:prstGeom prst="rect">
            <a:avLst/>
          </a:prstGeom>
          <a:solidFill>
            <a:srgbClr val="808080">
              <a:alpha val="1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04800" y="6313320"/>
            <a:ext cx="237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omar concienc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009880" y="66722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504800" y="7105680"/>
            <a:ext cx="2376720" cy="106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Gobierno – un factor cruc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Iniciativa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Incremento de la conciencia Publica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4"/>
          <a:stretch/>
        </p:blipFill>
        <p:spPr>
          <a:xfrm>
            <a:off x="9280440" y="696960"/>
            <a:ext cx="2556000" cy="62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1287360" cy="97693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8688240"/>
            <a:ext cx="12801600" cy="576360"/>
          </a:xfrm>
          <a:prstGeom prst="rect">
            <a:avLst/>
          </a:prstGeom>
          <a:solidFill>
            <a:srgbClr val="000000">
              <a:alpha val="5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rot="16200000">
            <a:off x="-2610000" y="2800440"/>
            <a:ext cx="669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Stylus BT"/>
              </a:rPr>
              <a:t>LA CULTURA DE LAS CIUDA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287360" y="263520"/>
            <a:ext cx="5834160" cy="368280"/>
          </a:xfrm>
          <a:prstGeom prst="rect">
            <a:avLst/>
          </a:prstGeom>
          <a:solidFill>
            <a:srgbClr val="c0c0c0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Stylus BT"/>
              </a:rPr>
              <a:t>Poblacion – Recursos – Medio Ambi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504800" y="1765440"/>
            <a:ext cx="2376720" cy="9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Agotamiento de los recursos natur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Erosion del Medio Ambiente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1160" y="13431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576440" y="984240"/>
            <a:ext cx="1800000" cy="360360"/>
          </a:xfrm>
          <a:prstGeom prst="rect">
            <a:avLst/>
          </a:prstGeom>
          <a:solidFill>
            <a:srgbClr val="808080">
              <a:alpha val="1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649520" y="2784600"/>
            <a:ext cx="1224000" cy="360360"/>
          </a:xfrm>
          <a:prstGeom prst="rect">
            <a:avLst/>
          </a:prstGeom>
          <a:solidFill>
            <a:srgbClr val="808080">
              <a:alpha val="1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720800" y="2784600"/>
            <a:ext cx="237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jempl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081160" y="31431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504800" y="3576600"/>
            <a:ext cx="2376720" cy="202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AutoNum type="arabicParenR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Tokio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– residuos producidos: 20 millones de toneladas al an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AutoNum type="arabicParenR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Ciudad de Mexico 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se secaron 2 de sus r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AutoNum type="arabicParenR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Londres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contaminacion del a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49520" y="984240"/>
            <a:ext cx="237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Expansion Global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967360" y="1905120"/>
            <a:ext cx="5113440" cy="32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Se busca un desarrollo de una cultura urbana postindustrial, sensibilizada con el entorno, y socialmente responsabl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                    “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DESARROLLO SOSTENIDO”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El objetivo definitivo de un desarrollo economico sostenible es poder legar a las generaciones futuras ese capital natural en condiciones parecidas, o incluso mejoradas, de lo que nosotros hemos heredado.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577880" y="5808600"/>
            <a:ext cx="2160720" cy="360360"/>
          </a:xfrm>
          <a:prstGeom prst="rect">
            <a:avLst/>
          </a:prstGeom>
          <a:solidFill>
            <a:srgbClr val="808080">
              <a:alpha val="1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504800" y="5808600"/>
            <a:ext cx="237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Revertir la situac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009880" y="61675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504800" y="6600960"/>
            <a:ext cx="2808360" cy="13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AutoNum type="arabicPlain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Difusion de la conciencia ecolog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AutoNum type="arabicPlain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La teconologia de las comunicaciones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AutoNum type="arabicPlain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Produccion automatiza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8561520" y="34322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JapanTrip001.jpg image by MX5_Dorifto"/>
          <p:cNvPicPr/>
          <p:nvPr/>
        </p:nvPicPr>
        <p:blipFill>
          <a:blip r:embed="rId1"/>
          <a:stretch/>
        </p:blipFill>
        <p:spPr>
          <a:xfrm>
            <a:off x="10361520" y="7392960"/>
            <a:ext cx="2154240" cy="161604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0288440" y="8977320"/>
            <a:ext cx="280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876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KI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8272440" y="7321680"/>
            <a:ext cx="1641600" cy="164124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8201160" y="8977320"/>
            <a:ext cx="280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876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XIC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464080" y="8977320"/>
            <a:ext cx="280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876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ND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5537160" y="7332840"/>
            <a:ext cx="2481480" cy="164448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5105520" y="1200240"/>
            <a:ext cx="6840360" cy="4752720"/>
          </a:xfrm>
          <a:prstGeom prst="rect">
            <a:avLst/>
          </a:prstGeom>
          <a:noFill/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0"/>
            <a:ext cx="1287360" cy="98409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16200000">
            <a:off x="-2412000" y="3315240"/>
            <a:ext cx="6696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Stylus BT"/>
              </a:rPr>
              <a:t>La Cultura de las Ciudad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576440" y="984240"/>
            <a:ext cx="439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brez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empleo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ciente sistema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nitar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521160" y="839880"/>
            <a:ext cx="287280" cy="1366920"/>
          </a:xfrm>
          <a:custGeom>
            <a:avLst/>
            <a:gdLst>
              <a:gd name="textAreaLeft" fmla="*/ 0 w 287280"/>
              <a:gd name="textAreaRight" fmla="*/ 103680 w 287280"/>
              <a:gd name="textAreaTop" fmla="*/ 35640 h 1366920"/>
              <a:gd name="textAreaBottom" fmla="*/ 1331280 h 1366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879720" y="984240"/>
            <a:ext cx="2449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icultan la capacidad de las ciudades para ser sostenibles medioambientalm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647720" y="263988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ndo en vías de desarrollo</a:t>
            </a:r>
            <a:r>
              <a:rPr b="0" lang="en-US" sz="1800" spc="-1" strike="noStrike">
                <a:solidFill>
                  <a:srgbClr val="000000"/>
                </a:solidFill>
                <a:latin typeface="Stylus B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3376440" y="7105320"/>
            <a:ext cx="57636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024440" y="2639880"/>
            <a:ext cx="223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bres viven sin regeneración po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rot="5400000">
            <a:off x="3196440" y="2531160"/>
            <a:ext cx="431640" cy="2665440"/>
          </a:xfrm>
          <a:custGeom>
            <a:avLst/>
            <a:gdLst>
              <a:gd name="textAreaLeft" fmla="*/ 0 w 431640"/>
              <a:gd name="textAreaRight" fmla="*/ 155880 w 431640"/>
              <a:gd name="textAreaTop" fmla="*/ 69480 h 2665440"/>
              <a:gd name="textAreaBottom" fmla="*/ 2595960 h 2665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916"/>
                </a:lnTo>
                <a:cubicBezTo>
                  <a:pt x="10800" y="10816"/>
                  <a:pt x="16200" y="11716"/>
                  <a:pt x="21600" y="11716"/>
                </a:cubicBezTo>
                <a:cubicBezTo>
                  <a:pt x="16200" y="11716"/>
                  <a:pt x="10800" y="12616"/>
                  <a:pt x="10800" y="13516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720800" y="4224240"/>
            <a:ext cx="374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cesarios nuevos conceptos de planificación urbana que integren las responsabilidades soci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647720" y="559260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ndo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arroll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871720" y="58086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664080" y="5592600"/>
            <a:ext cx="223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gregación de clases acomodadas a ámbitos priv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121520" y="98424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ERR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952800" y="6745320"/>
            <a:ext cx="2232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ERR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IER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76440" y="32878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76440" y="7464600"/>
            <a:ext cx="64800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576440" y="725472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pacio urbano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grup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9569520" y="839880"/>
            <a:ext cx="223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pacio urbano que desarrolla una única fun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561520" y="11286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705880" y="26668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048440" y="5475240"/>
            <a:ext cx="22320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entro comercial (cerrad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9642600" y="2378160"/>
            <a:ext cx="273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funcional – variedad de usos – todos pueden particip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6905520" y="3602160"/>
            <a:ext cx="2376720" cy="178092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9929880" y="3602160"/>
            <a:ext cx="2376360" cy="178272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7192800" y="2535120"/>
            <a:ext cx="2232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IER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9929880" y="547524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que (abiert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913520" y="63849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0937880" y="63849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048440" y="7248600"/>
            <a:ext cx="223200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tisfacen nuestros caprichos de consumo privado - efic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0072800" y="7248600"/>
            <a:ext cx="223200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ortan algo común – agrupan distintas partes de la socie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8688240"/>
            <a:ext cx="12801600" cy="576360"/>
          </a:xfrm>
          <a:prstGeom prst="rect">
            <a:avLst/>
          </a:prstGeom>
          <a:solidFill>
            <a:srgbClr val="000000">
              <a:alpha val="5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1287360" cy="98409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rot="16200000">
            <a:off x="-2412000" y="3315240"/>
            <a:ext cx="6696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Stylus BT"/>
              </a:rPr>
              <a:t>La Cultura de las Ciudad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504800" y="1271520"/>
            <a:ext cx="3529080" cy="26481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1504800" y="55260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Stylus BT"/>
              </a:rPr>
              <a:t>Los Ange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576440" y="4232160"/>
            <a:ext cx="35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tylus BT"/>
              </a:rPr>
              <a:t>Crecimiento acompañado de segreg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504800" y="5234040"/>
            <a:ext cx="51832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fueras                  “cinturón toxico”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s adentro           suburbios residenciales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entro                   guetos – bandas callejeras</a:t>
            </a:r>
            <a:r>
              <a:rPr b="0" lang="en-US" sz="1800" spc="-1" strike="noStrike">
                <a:solidFill>
                  <a:srgbClr val="000000"/>
                </a:solidFill>
                <a:latin typeface="Stylus BT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13160" y="545004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944800" y="581040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440080" y="62420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337520" y="4368960"/>
            <a:ext cx="5464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jo distrito             trama de call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 negocios             subterráne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944800" y="703404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7337520" y="1271520"/>
            <a:ext cx="3960720" cy="264024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7337520" y="55260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tylus BT"/>
              </a:rPr>
              <a:t>Houst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8850240" y="472932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504800" y="6816600"/>
            <a:ext cx="496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óviles             fortaleza móvil</a:t>
            </a:r>
            <a:r>
              <a:rPr b="0" lang="en-US" sz="1800" spc="-1" strike="noStrike">
                <a:solidFill>
                  <a:srgbClr val="000000"/>
                </a:solidFill>
                <a:latin typeface="Stylus BT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rot="16200000">
            <a:off x="9137520" y="3431880"/>
            <a:ext cx="216000" cy="3816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345520" y="5521320"/>
            <a:ext cx="496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stema conect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048440" y="6621480"/>
            <a:ext cx="4967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talmente privado – único acceso a través de bancos y compañías petrolíferas que dominan Houston</a:t>
            </a:r>
            <a:r>
              <a:rPr b="0" lang="en-US" sz="1800" spc="-1" strike="noStrike">
                <a:solidFill>
                  <a:srgbClr val="000000"/>
                </a:solidFill>
                <a:latin typeface="Stylus BT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9280440" y="5952960"/>
            <a:ext cx="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121520" y="8132760"/>
            <a:ext cx="4967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tylus BT"/>
              </a:rPr>
              <a:t>Elite dirigente: compra y negocia en un ambiente confortable, seguro y con aire acondicionado</a:t>
            </a:r>
            <a:r>
              <a:rPr b="0" lang="en-US" sz="1800" spc="-1" strike="noStrike">
                <a:solidFill>
                  <a:srgbClr val="000000"/>
                </a:solidFill>
                <a:latin typeface="Stylus BT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8688240"/>
            <a:ext cx="12801600" cy="576360"/>
          </a:xfrm>
          <a:prstGeom prst="rect">
            <a:avLst/>
          </a:prstGeom>
          <a:solidFill>
            <a:srgbClr val="000000">
              <a:alpha val="5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8616960"/>
            <a:ext cx="12801600" cy="576360"/>
          </a:xfrm>
          <a:prstGeom prst="rect">
            <a:avLst/>
          </a:prstGeom>
          <a:solidFill>
            <a:srgbClr val="000000">
              <a:alpha val="5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0"/>
            <a:ext cx="1287360" cy="98409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rot="16200000">
            <a:off x="-2412000" y="3315240"/>
            <a:ext cx="6696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Stylus BT"/>
              </a:rPr>
              <a:t>La Cultura de las Ciudad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863720" y="623880"/>
            <a:ext cx="23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tylus BT"/>
              </a:rPr>
              <a:t>CIUDADES     </a:t>
            </a:r>
            <a:r>
              <a:rPr b="0" lang="en-US" sz="1800" spc="-1" strike="noStrike">
                <a:solidFill>
                  <a:srgbClr val="000000"/>
                </a:solidFill>
                <a:latin typeface="Stylus B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576440" y="1200240"/>
            <a:ext cx="4967280" cy="38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entros de comunicación  aprendiza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lejas estructuras comerci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sas concentraciones human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calizan la energía física, creativa e intelect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binan: edades, razas, culturas y activida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udadanía act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da urbana vibra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rot="10800000">
            <a:off x="3736800" y="3720600"/>
            <a:ext cx="432000" cy="1150920"/>
          </a:xfrm>
          <a:custGeom>
            <a:avLst/>
            <a:gdLst>
              <a:gd name="textAreaLeft" fmla="*/ 276120 w 432000"/>
              <a:gd name="textAreaRight" fmla="*/ 432360 w 432000"/>
              <a:gd name="textAreaTop" fmla="*/ 29880 h 1150920"/>
              <a:gd name="textAreaBottom" fmla="*/ 1121040 h 1150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313160" y="3936960"/>
            <a:ext cx="25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ena ciudad – identidad cív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647720" y="5016600"/>
            <a:ext cx="4967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tylus BT"/>
              </a:rPr>
              <a:t>Las ciudades reflejan los valores, el compromiso y la resolución de las sociedades que las envuelven</a:t>
            </a:r>
            <a:r>
              <a:rPr b="0" lang="en-US" sz="1800" spc="-1" strike="noStrike">
                <a:solidFill>
                  <a:srgbClr val="000000"/>
                </a:solidFill>
                <a:latin typeface="Stylus BT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1720800" y="6024600"/>
            <a:ext cx="2220840" cy="166536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2152800" y="7392960"/>
            <a:ext cx="1257120" cy="160164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3"/>
          <a:stretch/>
        </p:blipFill>
        <p:spPr>
          <a:xfrm>
            <a:off x="3808440" y="7176960"/>
            <a:ext cx="1960560" cy="155916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razas.jpg image by Alexven"/>
          <p:cNvPicPr/>
          <p:nvPr/>
        </p:nvPicPr>
        <p:blipFill>
          <a:blip r:embed="rId4"/>
          <a:stretch/>
        </p:blipFill>
        <p:spPr>
          <a:xfrm>
            <a:off x="4240080" y="6095880"/>
            <a:ext cx="1330560" cy="122076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7553160" y="1271520"/>
            <a:ext cx="25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quitectura contemporán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0360080" y="1271520"/>
            <a:ext cx="252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resar nuestros valores sociales y filosóficos comu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9353520" y="148752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408800" y="2639880"/>
            <a:ext cx="5392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CESIDAD              desarrollar una nueva form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de ciudadana que respond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a las necesidades de l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ciudad moderna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848800" y="278460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777160" y="321624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985160" y="3936960"/>
            <a:ext cx="3456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yor participación ciudada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derazgo mas decidi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5"/>
          <a:stretch/>
        </p:blipFill>
        <p:spPr>
          <a:xfrm>
            <a:off x="5896080" y="1344600"/>
            <a:ext cx="1387440" cy="76824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6"/>
          <a:stretch/>
        </p:blipFill>
        <p:spPr>
          <a:xfrm>
            <a:off x="5969160" y="2424240"/>
            <a:ext cx="1350720" cy="111420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7"/>
          <a:stretch/>
        </p:blipFill>
        <p:spPr>
          <a:xfrm>
            <a:off x="6113520" y="3863880"/>
            <a:ext cx="1566720" cy="100332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9137520" y="5232240"/>
            <a:ext cx="25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pues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rot="16200000">
            <a:off x="9640800" y="3431880"/>
            <a:ext cx="360360" cy="3097080"/>
          </a:xfrm>
          <a:custGeom>
            <a:avLst/>
            <a:gdLst>
              <a:gd name="textAreaLeft" fmla="*/ 230400 w 360360"/>
              <a:gd name="textAreaRight" fmla="*/ 360720 w 360360"/>
              <a:gd name="textAreaTop" fmla="*/ 80640 h 3097080"/>
              <a:gd name="textAreaBottom" fmla="*/ 3016440 h 3097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8201160" y="6168960"/>
            <a:ext cx="38876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señar conducta ciudadana a gente de todas las eda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cuchar lo que plante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9640800" y="566424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8416800" y="7969320"/>
            <a:ext cx="25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tura calidad de vida depende de es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9713880" y="739296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0"/>
            <a:ext cx="1287360" cy="98409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rot="16200000">
            <a:off x="-2412000" y="3315240"/>
            <a:ext cx="6696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Stylus BT"/>
              </a:rPr>
              <a:t>La Cultura de las Ciudad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720800" y="1344600"/>
            <a:ext cx="43927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udad brasileña en rápida expans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icipación ciudada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stión política de amplias mir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8688240"/>
            <a:ext cx="12801600" cy="576360"/>
          </a:xfrm>
          <a:prstGeom prst="rect">
            <a:avLst/>
          </a:prstGeom>
          <a:solidFill>
            <a:srgbClr val="000000">
              <a:alpha val="5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863720" y="623880"/>
            <a:ext cx="23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tylus BT"/>
              </a:rPr>
              <a:t>Curitib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016080" y="2496960"/>
            <a:ext cx="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647720" y="3073320"/>
            <a:ext cx="43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ro solventar problemas de crecimiento y mantenimi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curitiba322qs.jpg"/>
          <p:cNvPicPr/>
          <p:nvPr/>
        </p:nvPicPr>
        <p:blipFill>
          <a:blip r:embed="rId1"/>
          <a:stretch/>
        </p:blipFill>
        <p:spPr>
          <a:xfrm>
            <a:off x="1504800" y="3865680"/>
            <a:ext cx="2514600" cy="167472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1576440" y="6246720"/>
            <a:ext cx="59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líticas polivalentes            incrementar concienci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medioambiental y so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952800" y="638964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3664080" y="4224240"/>
            <a:ext cx="2381040" cy="178596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 rot="16200000">
            <a:off x="3952800" y="4800240"/>
            <a:ext cx="250920" cy="4861080"/>
          </a:xfrm>
          <a:custGeom>
            <a:avLst/>
            <a:gdLst>
              <a:gd name="textAreaLeft" fmla="*/ 160200 w 250920"/>
              <a:gd name="textAreaRight" fmla="*/ 251280 w 250920"/>
              <a:gd name="textAreaTop" fmla="*/ 126720 h 4861080"/>
              <a:gd name="textAreaBottom" fmla="*/ 4734360 h 486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079720" y="7608960"/>
            <a:ext cx="43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udadanía que siente la ciudad como propia y s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ponsabiliza de su futu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7048440" y="623880"/>
            <a:ext cx="2009880" cy="150804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4"/>
          <a:stretch/>
        </p:blipFill>
        <p:spPr>
          <a:xfrm>
            <a:off x="9929880" y="696960"/>
            <a:ext cx="2376360" cy="15303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5"/>
          <a:stretch/>
        </p:blipFill>
        <p:spPr>
          <a:xfrm>
            <a:off x="8488440" y="2021040"/>
            <a:ext cx="2089080" cy="148428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7048440" y="696960"/>
            <a:ext cx="16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an Francis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9064800" y="220824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att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9929880" y="76824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rtl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480440" y="3720960"/>
            <a:ext cx="43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orporan la participación ciudadana en la planificación urban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8705880" y="4800600"/>
            <a:ext cx="43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stema electo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0072800" y="422424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7553160" y="537696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bitante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9713880" y="5305320"/>
            <a:ext cx="338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enten involucrados – sentimiento de control sobre sus ciuda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8921880" y="552132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7913520" y="6384960"/>
            <a:ext cx="43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tylus BT"/>
              </a:rPr>
              <a:t>Participación y verdadero compromiso gubernament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9280440" y="7608960"/>
            <a:ext cx="43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CNOLOG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0072800" y="70326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2"/>
          <p:cNvSpPr/>
          <p:nvPr/>
        </p:nvSpPr>
        <p:spPr>
          <a:xfrm>
            <a:off x="0" y="0"/>
            <a:ext cx="1287360" cy="98409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4"/>
          <p:cNvSpPr/>
          <p:nvPr/>
        </p:nvSpPr>
        <p:spPr>
          <a:xfrm rot="16200000">
            <a:off x="-2716560" y="3620160"/>
            <a:ext cx="669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Stylus BT"/>
              </a:rPr>
              <a:t>CIUDADES SOSTENIB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5 CuadroTexto"/>
          <p:cNvSpPr/>
          <p:nvPr/>
        </p:nvSpPr>
        <p:spPr>
          <a:xfrm>
            <a:off x="1542960" y="1033560"/>
            <a:ext cx="335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PROBLEMA  = MAGNITU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3" name="7 Conector recto de flecha"/>
          <p:cNvCxnSpPr/>
          <p:nvPr/>
        </p:nvCxnSpPr>
        <p:spPr>
          <a:xfrm>
            <a:off x="4329000" y="1155240"/>
            <a:ext cx="64332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24" name="8 CuadroTexto"/>
          <p:cNvSpPr/>
          <p:nvPr/>
        </p:nvSpPr>
        <p:spPr>
          <a:xfrm>
            <a:off x="4971960" y="942840"/>
            <a:ext cx="2428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Incremento de la población mundi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5" name="9 Conector recto de flecha"/>
          <p:cNvCxnSpPr/>
          <p:nvPr/>
        </p:nvCxnSpPr>
        <p:spPr>
          <a:xfrm>
            <a:off x="7257960" y="1157400"/>
            <a:ext cx="6433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26" name="10 Conector recto de flecha"/>
          <p:cNvCxnSpPr/>
          <p:nvPr/>
        </p:nvCxnSpPr>
        <p:spPr>
          <a:xfrm>
            <a:off x="3114720" y="6799320"/>
            <a:ext cx="6433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27" name="11 Conector recto de flecha"/>
          <p:cNvCxnSpPr/>
          <p:nvPr/>
        </p:nvCxnSpPr>
        <p:spPr>
          <a:xfrm>
            <a:off x="3114720" y="7216920"/>
            <a:ext cx="6433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28" name="12 Conector recto de flecha"/>
          <p:cNvCxnSpPr/>
          <p:nvPr/>
        </p:nvCxnSpPr>
        <p:spPr>
          <a:xfrm>
            <a:off x="6900840" y="7216920"/>
            <a:ext cx="6433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29" name="13 CuadroTexto"/>
          <p:cNvSpPr/>
          <p:nvPr/>
        </p:nvSpPr>
        <p:spPr>
          <a:xfrm>
            <a:off x="7900920" y="942840"/>
            <a:ext cx="4572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Multiplicada x 10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De 200 millones paso a 2000 millo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14 CuadroTexto"/>
          <p:cNvSpPr/>
          <p:nvPr/>
        </p:nvSpPr>
        <p:spPr>
          <a:xfrm>
            <a:off x="2257560" y="2533680"/>
            <a:ext cx="242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NEW YORX  EN 19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15 CuadroTexto"/>
          <p:cNvSpPr/>
          <p:nvPr/>
        </p:nvSpPr>
        <p:spPr>
          <a:xfrm>
            <a:off x="1542960" y="6605640"/>
            <a:ext cx="242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ACTUALID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7" descr="http://imagecache5.art.com/p/LRG/15/1555/6R9DD00Z/clyde-sunderland-lockheed-constellation-new-york-1950.jpg"/>
          <p:cNvPicPr/>
          <p:nvPr/>
        </p:nvPicPr>
        <p:blipFill>
          <a:blip r:embed="rId1"/>
          <a:stretch/>
        </p:blipFill>
        <p:spPr>
          <a:xfrm>
            <a:off x="2257560" y="3014640"/>
            <a:ext cx="3483000" cy="278604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9" descr="http://upload.wikimedia.org/wikipedia/commons/thumb/7/76/Las_Vegas_strip.jpg/250px-Las_Vegas_strip.jpg"/>
          <p:cNvPicPr/>
          <p:nvPr/>
        </p:nvPicPr>
        <p:blipFill>
          <a:blip r:embed="rId2"/>
          <a:stretch/>
        </p:blipFill>
        <p:spPr>
          <a:xfrm>
            <a:off x="9472680" y="2585880"/>
            <a:ext cx="2381040" cy="179100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11" descr="http://1.bp.blogspot.com/_laGRVrfRGjE/SByh_Vb9tiI/AAAAAAAAA9U/bJ1RjhO6cTA/s400/nyorktimes.JPG"/>
          <p:cNvPicPr/>
          <p:nvPr/>
        </p:nvPicPr>
        <p:blipFill>
          <a:blip r:embed="rId3"/>
          <a:stretch/>
        </p:blipFill>
        <p:spPr>
          <a:xfrm>
            <a:off x="6043680" y="3014640"/>
            <a:ext cx="3714840" cy="278604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13" descr="http://www.fao.org/docrep/010/a1598s/a1598s38.jpg"/>
          <p:cNvPicPr/>
          <p:nvPr/>
        </p:nvPicPr>
        <p:blipFill>
          <a:blip r:embed="rId4"/>
          <a:stretch/>
        </p:blipFill>
        <p:spPr>
          <a:xfrm>
            <a:off x="9472680" y="4729320"/>
            <a:ext cx="2405160" cy="1571400"/>
          </a:xfrm>
          <a:prstGeom prst="rect">
            <a:avLst/>
          </a:prstGeom>
          <a:ln w="0">
            <a:noFill/>
          </a:ln>
        </p:spPr>
      </p:pic>
      <p:sp>
        <p:nvSpPr>
          <p:cNvPr id="236" name="20 CuadroTexto"/>
          <p:cNvSpPr/>
          <p:nvPr/>
        </p:nvSpPr>
        <p:spPr>
          <a:xfrm>
            <a:off x="6043680" y="2533680"/>
            <a:ext cx="242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NEW YORX  EN 19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21 CuadroTexto"/>
          <p:cNvSpPr/>
          <p:nvPr/>
        </p:nvSpPr>
        <p:spPr>
          <a:xfrm>
            <a:off x="3900600" y="6645240"/>
            <a:ext cx="4786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Consumo ¾ partes de la energía mundia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22 CuadroTexto"/>
          <p:cNvSpPr/>
          <p:nvPr/>
        </p:nvSpPr>
        <p:spPr>
          <a:xfrm>
            <a:off x="7543800" y="7074000"/>
            <a:ext cx="485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Consumidores insaciables y contaminantes incansabl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23 CuadroTexto"/>
          <p:cNvSpPr/>
          <p:nvPr/>
        </p:nvSpPr>
        <p:spPr>
          <a:xfrm>
            <a:off x="3971880" y="7064280"/>
            <a:ext cx="264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Parasito dentro del paisaj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24 CuadroTexto"/>
          <p:cNvSpPr/>
          <p:nvPr/>
        </p:nvSpPr>
        <p:spPr>
          <a:xfrm>
            <a:off x="3971880" y="7662960"/>
            <a:ext cx="3429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Crecimiento desmesurad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1" name="25 Conector recto de flecha"/>
          <p:cNvCxnSpPr/>
          <p:nvPr/>
        </p:nvCxnSpPr>
        <p:spPr>
          <a:xfrm>
            <a:off x="3114720" y="7800480"/>
            <a:ext cx="64332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42" name="26 Conector recto de flecha"/>
          <p:cNvCxnSpPr/>
          <p:nvPr/>
        </p:nvCxnSpPr>
        <p:spPr>
          <a:xfrm>
            <a:off x="3114720" y="8357760"/>
            <a:ext cx="64332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43" name="27 Conector recto de flecha"/>
          <p:cNvCxnSpPr/>
          <p:nvPr/>
        </p:nvCxnSpPr>
        <p:spPr>
          <a:xfrm>
            <a:off x="6900840" y="7800480"/>
            <a:ext cx="64332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44" name="28 CuadroTexto"/>
          <p:cNvSpPr/>
          <p:nvPr/>
        </p:nvSpPr>
        <p:spPr>
          <a:xfrm>
            <a:off x="3971880" y="8207280"/>
            <a:ext cx="335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Incremento de la población mundia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29 CuadroTexto"/>
          <p:cNvSpPr/>
          <p:nvPr/>
        </p:nvSpPr>
        <p:spPr>
          <a:xfrm>
            <a:off x="7543800" y="7645320"/>
            <a:ext cx="3929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Migraciones del mundo rura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30 CuadroTexto"/>
          <p:cNvSpPr/>
          <p:nvPr/>
        </p:nvSpPr>
        <p:spPr>
          <a:xfrm>
            <a:off x="7543800" y="8175600"/>
            <a:ext cx="450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Recursos y contaminación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7" name="31 Conector recto de flecha"/>
          <p:cNvCxnSpPr/>
          <p:nvPr/>
        </p:nvCxnSpPr>
        <p:spPr>
          <a:xfrm>
            <a:off x="6900840" y="8370360"/>
            <a:ext cx="64332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48" name=""/>
          <p:cNvSpPr/>
          <p:nvPr/>
        </p:nvSpPr>
        <p:spPr>
          <a:xfrm>
            <a:off x="0" y="8688240"/>
            <a:ext cx="12801600" cy="576360"/>
          </a:xfrm>
          <a:prstGeom prst="rect">
            <a:avLst/>
          </a:prstGeom>
          <a:solidFill>
            <a:srgbClr val="000000">
              <a:alpha val="5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5T22:16:39Z</dcterms:created>
  <dc:creator>WinuE</dc:creator>
  <dc:description/>
  <dc:language>en-US</dc:language>
  <cp:lastModifiedBy>Luciana</cp:lastModifiedBy>
  <dcterms:modified xsi:type="dcterms:W3CDTF">2009-09-22T23:53:37Z</dcterms:modified>
  <cp:revision>78</cp:revision>
  <dc:subject/>
  <dc:title>Diapositiva 1</dc:title>
</cp:coreProperties>
</file>